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9E927CE-2BED-4453-B3D7-A2FBFB997B8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A4B0660D-5E41-4B59-842D-CC9BADB3F380}">
      <dgm:prSet/>
      <dgm:spPr/>
      <dgm:t>
        <a:bodyPr/>
        <a:lstStyle/>
        <a:p>
          <a:r>
            <a:rPr lang="en-US" b="1" dirty="0" smtClean="0">
              <a:solidFill>
                <a:srgbClr val="FFFF00"/>
              </a:solidFill>
              <a:latin typeface="Times New Roman" pitchFamily="18" charset="0"/>
              <a:ea typeface="Tahoma" pitchFamily="34" charset="0"/>
              <a:cs typeface="Times New Roman" pitchFamily="18" charset="0"/>
            </a:rPr>
            <a:t>Introduction</a:t>
          </a:r>
        </a:p>
      </dgm:t>
    </dgm:pt>
    <dgm:pt modelId="{CFAEA700-974C-4916-B673-8AD67DC1A5BD}" type="parTrans" cxnId="{8579943B-602C-48F1-B2A1-BF318F75A08F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784DEA51-C082-4605-BF67-B420CDAFA7B3}" type="sibTrans" cxnId="{8579943B-602C-48F1-B2A1-BF318F75A08F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9E93B733-32C2-4DA0-AEDA-C4AFF145851C}">
      <dgm:prSet/>
      <dgm:spPr/>
      <dgm:t>
        <a:bodyPr/>
        <a:lstStyle/>
        <a:p>
          <a:r>
            <a:rPr lang="en-GB" b="1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Structure of DVR</a:t>
          </a:r>
          <a:endParaRPr lang="en-US" b="1" dirty="0" smtClean="0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E08CA659-5050-41AE-B05E-3BEA1E0AF87C}" type="parTrans" cxnId="{AD9D16A6-9A9E-4023-A931-121F246B5C68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07016C41-D322-4CA1-A6AA-7D1762D8A65F}" type="sibTrans" cxnId="{AD9D16A6-9A9E-4023-A931-121F246B5C68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BCB06DC6-16EA-4E7A-9ABE-0EF763C671DF}">
      <dgm:prSet/>
      <dgm:spPr/>
      <dgm:t>
        <a:bodyPr/>
        <a:lstStyle/>
        <a:p>
          <a:r>
            <a:rPr lang="en-US" b="1" dirty="0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Simulation of SVPWM based DVR</a:t>
          </a:r>
        </a:p>
      </dgm:t>
    </dgm:pt>
    <dgm:pt modelId="{F61B23DA-52A5-4993-B3F1-BDE5AB758EBC}" type="parTrans" cxnId="{AF421D3B-F958-477E-A2AE-D832A7236EA6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133F747D-FB59-408F-B308-93B861DC1A58}" type="sibTrans" cxnId="{AF421D3B-F958-477E-A2AE-D832A7236EA6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C410739F-535A-414A-9E2E-8EDF5C42EC92}">
      <dgm:prSet/>
      <dgm:spPr/>
      <dgm:t>
        <a:bodyPr/>
        <a:lstStyle/>
        <a:p>
          <a:r>
            <a:rPr lang="en-US" b="1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Conclusions</a:t>
          </a:r>
          <a:endParaRPr lang="en-US" b="1" dirty="0" smtClean="0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0ED6CF1F-729B-4D9F-A062-1D923E42DE60}" type="parTrans" cxnId="{280C9643-FA1C-4882-8A98-66A0D62166CC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3167E6BB-F144-4CD1-A930-625E99AB9E95}" type="sibTrans" cxnId="{280C9643-FA1C-4882-8A98-66A0D62166CC}">
      <dgm:prSet/>
      <dgm:spPr/>
      <dgm:t>
        <a:bodyPr/>
        <a:lstStyle/>
        <a:p>
          <a:endParaRPr lang="en-GB" b="1">
            <a:solidFill>
              <a:srgbClr val="FFFF00"/>
            </a:solidFill>
            <a:latin typeface="Times New Roman" pitchFamily="18" charset="0"/>
            <a:cs typeface="Times New Roman" pitchFamily="18" charset="0"/>
          </a:endParaRPr>
        </a:p>
      </dgm:t>
    </dgm:pt>
    <dgm:pt modelId="{7DD863C8-AF8E-4460-823D-7A055DDD3EAB}">
      <dgm:prSet/>
      <dgm:spPr/>
      <dgm:t>
        <a:bodyPr/>
        <a:lstStyle/>
        <a:p>
          <a:r>
            <a:rPr lang="en-US" b="1" dirty="0" smtClean="0">
              <a:solidFill>
                <a:srgbClr val="FFFF00"/>
              </a:solidFill>
              <a:latin typeface="Times New Roman" pitchFamily="18" charset="0"/>
              <a:cs typeface="Times New Roman" pitchFamily="18" charset="0"/>
            </a:rPr>
            <a:t>Simulation of SVPWM</a:t>
          </a:r>
        </a:p>
      </dgm:t>
    </dgm:pt>
    <dgm:pt modelId="{090B9EDE-4FE5-47FA-824A-7315F9E8C95E}" type="parTrans" cxnId="{E5AD646A-39BA-4A75-81BD-B388B1BC46DF}">
      <dgm:prSet/>
      <dgm:spPr/>
      <dgm:t>
        <a:bodyPr/>
        <a:lstStyle/>
        <a:p>
          <a:endParaRPr lang="en-GB">
            <a:solidFill>
              <a:srgbClr val="FFFF00"/>
            </a:solidFill>
          </a:endParaRPr>
        </a:p>
      </dgm:t>
    </dgm:pt>
    <dgm:pt modelId="{3D840C28-4E15-41C4-B49C-7FA5F0124E54}" type="sibTrans" cxnId="{E5AD646A-39BA-4A75-81BD-B388B1BC46DF}">
      <dgm:prSet/>
      <dgm:spPr/>
      <dgm:t>
        <a:bodyPr/>
        <a:lstStyle/>
        <a:p>
          <a:endParaRPr lang="en-GB">
            <a:solidFill>
              <a:srgbClr val="FFFF00"/>
            </a:solidFill>
          </a:endParaRPr>
        </a:p>
      </dgm:t>
    </dgm:pt>
    <dgm:pt modelId="{9DECB573-401A-4FB8-9180-824F5071BF22}" type="pres">
      <dgm:prSet presAssocID="{A9E927CE-2BED-4453-B3D7-A2FBFB997B8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en-GB"/>
        </a:p>
      </dgm:t>
    </dgm:pt>
    <dgm:pt modelId="{4DC62C5C-FCE2-4FAA-9308-82FF21D190E6}" type="pres">
      <dgm:prSet presAssocID="{A4B0660D-5E41-4B59-842D-CC9BADB3F380}" presName="parentText" presStyleLbl="node1" presStyleIdx="0" presStyleCnt="5" custLinFactNeighborY="-92792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A2B1D797-E48B-44D3-8656-FEDDBF3A30BD}" type="pres">
      <dgm:prSet presAssocID="{784DEA51-C082-4605-BF67-B420CDAFA7B3}" presName="spacer" presStyleCnt="0"/>
      <dgm:spPr/>
    </dgm:pt>
    <dgm:pt modelId="{6BB590B9-4AD0-4F19-8B30-B89AE3399FA0}" type="pres">
      <dgm:prSet presAssocID="{9E93B733-32C2-4DA0-AEDA-C4AFF145851C}" presName="parentText" presStyleLbl="node1" presStyleIdx="1" presStyleCnt="5" custLinFactNeighborY="-75675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584AF8F7-CC25-4D5D-B4A0-537061A938DD}" type="pres">
      <dgm:prSet presAssocID="{07016C41-D322-4CA1-A6AA-7D1762D8A65F}" presName="spacer" presStyleCnt="0"/>
      <dgm:spPr/>
    </dgm:pt>
    <dgm:pt modelId="{F6CFB58A-8F47-4197-A394-E5919A270A8B}" type="pres">
      <dgm:prSet presAssocID="{7DD863C8-AF8E-4460-823D-7A055DDD3EAB}" presName="parentText" presStyleLbl="node1" presStyleIdx="2" presStyleCnt="5" custLinFactNeighborY="-58558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32EACFC7-29D6-4624-A37B-709C95917F46}" type="pres">
      <dgm:prSet presAssocID="{3D840C28-4E15-41C4-B49C-7FA5F0124E54}" presName="spacer" presStyleCnt="0"/>
      <dgm:spPr/>
    </dgm:pt>
    <dgm:pt modelId="{94FEB071-07C4-425A-982B-CFE746FB6ECF}" type="pres">
      <dgm:prSet presAssocID="{BCB06DC6-16EA-4E7A-9ABE-0EF763C671DF}" presName="parentText" presStyleLbl="node1" presStyleIdx="3" presStyleCnt="5" custLinFactNeighborY="-41441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F2EF92C8-D6E8-490A-A47D-3C91E2EBA248}" type="pres">
      <dgm:prSet presAssocID="{133F747D-FB59-408F-B308-93B861DC1A58}" presName="spacer" presStyleCnt="0"/>
      <dgm:spPr/>
    </dgm:pt>
    <dgm:pt modelId="{BF467D84-2C35-4A5C-A804-D716B95BFD17}" type="pres">
      <dgm:prSet presAssocID="{C410739F-535A-414A-9E2E-8EDF5C42EC92}" presName="parentText" presStyleLbl="node1" presStyleIdx="4" presStyleCnt="5" custLinFactNeighborY="-24324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</dgm:ptLst>
  <dgm:cxnLst>
    <dgm:cxn modelId="{280C9643-FA1C-4882-8A98-66A0D62166CC}" srcId="{A9E927CE-2BED-4453-B3D7-A2FBFB997B8D}" destId="{C410739F-535A-414A-9E2E-8EDF5C42EC92}" srcOrd="4" destOrd="0" parTransId="{0ED6CF1F-729B-4D9F-A062-1D923E42DE60}" sibTransId="{3167E6BB-F144-4CD1-A930-625E99AB9E95}"/>
    <dgm:cxn modelId="{E5AD646A-39BA-4A75-81BD-B388B1BC46DF}" srcId="{A9E927CE-2BED-4453-B3D7-A2FBFB997B8D}" destId="{7DD863C8-AF8E-4460-823D-7A055DDD3EAB}" srcOrd="2" destOrd="0" parTransId="{090B9EDE-4FE5-47FA-824A-7315F9E8C95E}" sibTransId="{3D840C28-4E15-41C4-B49C-7FA5F0124E54}"/>
    <dgm:cxn modelId="{F3F3AA9B-6C84-44CE-BD3F-2553CB72F209}" type="presOf" srcId="{C410739F-535A-414A-9E2E-8EDF5C42EC92}" destId="{BF467D84-2C35-4A5C-A804-D716B95BFD17}" srcOrd="0" destOrd="0" presId="urn:microsoft.com/office/officeart/2005/8/layout/vList2"/>
    <dgm:cxn modelId="{9BA307F4-3146-4E5F-9E9D-872EEDC6F0D6}" type="presOf" srcId="{A9E927CE-2BED-4453-B3D7-A2FBFB997B8D}" destId="{9DECB573-401A-4FB8-9180-824F5071BF22}" srcOrd="0" destOrd="0" presId="urn:microsoft.com/office/officeart/2005/8/layout/vList2"/>
    <dgm:cxn modelId="{8579943B-602C-48F1-B2A1-BF318F75A08F}" srcId="{A9E927CE-2BED-4453-B3D7-A2FBFB997B8D}" destId="{A4B0660D-5E41-4B59-842D-CC9BADB3F380}" srcOrd="0" destOrd="0" parTransId="{CFAEA700-974C-4916-B673-8AD67DC1A5BD}" sibTransId="{784DEA51-C082-4605-BF67-B420CDAFA7B3}"/>
    <dgm:cxn modelId="{64E2902A-CBBA-4DE1-857F-89662A80B664}" type="presOf" srcId="{9E93B733-32C2-4DA0-AEDA-C4AFF145851C}" destId="{6BB590B9-4AD0-4F19-8B30-B89AE3399FA0}" srcOrd="0" destOrd="0" presId="urn:microsoft.com/office/officeart/2005/8/layout/vList2"/>
    <dgm:cxn modelId="{AD9D16A6-9A9E-4023-A931-121F246B5C68}" srcId="{A9E927CE-2BED-4453-B3D7-A2FBFB997B8D}" destId="{9E93B733-32C2-4DA0-AEDA-C4AFF145851C}" srcOrd="1" destOrd="0" parTransId="{E08CA659-5050-41AE-B05E-3BEA1E0AF87C}" sibTransId="{07016C41-D322-4CA1-A6AA-7D1762D8A65F}"/>
    <dgm:cxn modelId="{AF421D3B-F958-477E-A2AE-D832A7236EA6}" srcId="{A9E927CE-2BED-4453-B3D7-A2FBFB997B8D}" destId="{BCB06DC6-16EA-4E7A-9ABE-0EF763C671DF}" srcOrd="3" destOrd="0" parTransId="{F61B23DA-52A5-4993-B3F1-BDE5AB758EBC}" sibTransId="{133F747D-FB59-408F-B308-93B861DC1A58}"/>
    <dgm:cxn modelId="{B3ED9B98-62C0-49F8-B9ED-C08F88FD4086}" type="presOf" srcId="{BCB06DC6-16EA-4E7A-9ABE-0EF763C671DF}" destId="{94FEB071-07C4-425A-982B-CFE746FB6ECF}" srcOrd="0" destOrd="0" presId="urn:microsoft.com/office/officeart/2005/8/layout/vList2"/>
    <dgm:cxn modelId="{289BF23A-A325-419D-8D5E-6C4ECE324A16}" type="presOf" srcId="{7DD863C8-AF8E-4460-823D-7A055DDD3EAB}" destId="{F6CFB58A-8F47-4197-A394-E5919A270A8B}" srcOrd="0" destOrd="0" presId="urn:microsoft.com/office/officeart/2005/8/layout/vList2"/>
    <dgm:cxn modelId="{B4B6EE62-C180-4ADC-A3A2-52B38FEE1C7F}" type="presOf" srcId="{A4B0660D-5E41-4B59-842D-CC9BADB3F380}" destId="{4DC62C5C-FCE2-4FAA-9308-82FF21D190E6}" srcOrd="0" destOrd="0" presId="urn:microsoft.com/office/officeart/2005/8/layout/vList2"/>
    <dgm:cxn modelId="{FE41E8F0-F009-4C3C-BD8C-2E4FB8C66721}" type="presParOf" srcId="{9DECB573-401A-4FB8-9180-824F5071BF22}" destId="{4DC62C5C-FCE2-4FAA-9308-82FF21D190E6}" srcOrd="0" destOrd="0" presId="urn:microsoft.com/office/officeart/2005/8/layout/vList2"/>
    <dgm:cxn modelId="{CBB031F9-B4F7-4D0E-AEEC-BCAAE42DF48C}" type="presParOf" srcId="{9DECB573-401A-4FB8-9180-824F5071BF22}" destId="{A2B1D797-E48B-44D3-8656-FEDDBF3A30BD}" srcOrd="1" destOrd="0" presId="urn:microsoft.com/office/officeart/2005/8/layout/vList2"/>
    <dgm:cxn modelId="{43FB8D7F-64B0-49E8-BA61-876D9A3CDB7E}" type="presParOf" srcId="{9DECB573-401A-4FB8-9180-824F5071BF22}" destId="{6BB590B9-4AD0-4F19-8B30-B89AE3399FA0}" srcOrd="2" destOrd="0" presId="urn:microsoft.com/office/officeart/2005/8/layout/vList2"/>
    <dgm:cxn modelId="{02444E77-C195-4F64-A7C1-D05C5A0CAB7B}" type="presParOf" srcId="{9DECB573-401A-4FB8-9180-824F5071BF22}" destId="{584AF8F7-CC25-4D5D-B4A0-537061A938DD}" srcOrd="3" destOrd="0" presId="urn:microsoft.com/office/officeart/2005/8/layout/vList2"/>
    <dgm:cxn modelId="{05420AB8-DEED-44D1-87FE-5011F1F73189}" type="presParOf" srcId="{9DECB573-401A-4FB8-9180-824F5071BF22}" destId="{F6CFB58A-8F47-4197-A394-E5919A270A8B}" srcOrd="4" destOrd="0" presId="urn:microsoft.com/office/officeart/2005/8/layout/vList2"/>
    <dgm:cxn modelId="{0774901A-18B7-4441-973A-631CEE0E7CD2}" type="presParOf" srcId="{9DECB573-401A-4FB8-9180-824F5071BF22}" destId="{32EACFC7-29D6-4624-A37B-709C95917F46}" srcOrd="5" destOrd="0" presId="urn:microsoft.com/office/officeart/2005/8/layout/vList2"/>
    <dgm:cxn modelId="{E711806E-DDB0-4C99-93FB-CCC9353195F3}" type="presParOf" srcId="{9DECB573-401A-4FB8-9180-824F5071BF22}" destId="{94FEB071-07C4-425A-982B-CFE746FB6ECF}" srcOrd="6" destOrd="0" presId="urn:microsoft.com/office/officeart/2005/8/layout/vList2"/>
    <dgm:cxn modelId="{811B6AF2-8B80-4489-A88A-8159212EE4C4}" type="presParOf" srcId="{9DECB573-401A-4FB8-9180-824F5071BF22}" destId="{F2EF92C8-D6E8-490A-A47D-3C91E2EBA248}" srcOrd="7" destOrd="0" presId="urn:microsoft.com/office/officeart/2005/8/layout/vList2"/>
    <dgm:cxn modelId="{65FF31EA-0023-4973-95CA-143D21321A87}" type="presParOf" srcId="{9DECB573-401A-4FB8-9180-824F5071BF22}" destId="{BF467D84-2C35-4A5C-A804-D716B95BFD17}" srcOrd="8" destOrd="0" presId="urn:microsoft.com/office/officeart/2005/8/layout/vList2"/>
  </dgm:cxnLst>
  <dgm:bg>
    <a:noFill/>
    <a:effectLst>
      <a:outerShdw blurRad="50800" dist="50800" dir="5400000" algn="ctr" rotWithShape="0">
        <a:schemeClr val="accent1">
          <a:lumMod val="75000"/>
        </a:schemeClr>
      </a:outerShdw>
    </a:effectLst>
  </dgm:bg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C40-6BA2-43E7-9211-0799B8F9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4EC-079C-4ADD-BD60-189EB11F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817-2886-44C7-A569-E7129D66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1AC-8DCC-4366-A708-6CF67122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88B5-CEC5-4B89-9A70-AB5F49DD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3BC3-ADE8-4760-A102-A9F8D1C4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5FA0-8E50-4FED-8084-250CD900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3DC9-4597-4BB0-8CD9-1F94CB92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14BD-4603-45EE-8C5E-BA3F0816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9BFB-AB18-4B17-95D1-BF1A6BDF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FA94-2C37-4F2C-98AF-B8C75BE0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4AE-35EE-418A-B8DC-E503C9EA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689F-1CF5-416B-987D-B5E22E08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B4AF-6F29-4D39-A213-0BBA74AE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217B-EA2E-4632-962B-80411F02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05C8-23EE-4BB5-8C43-1670926B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D9ED-A494-4B95-A5F1-D3939140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4E16-EF64-4184-ACCC-17E1A03D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E3E4-EA13-4CB9-972F-37C475C6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3CF74-9988-4E24-A899-96F022B2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4FD1-3185-434C-B1AA-EB058482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90592-4AE3-483F-868C-496582A0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F9F-AA65-4272-B093-AF8FA5EC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9AC0D-4D54-4615-995F-A1A0EA76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47676-852E-4F4C-A66C-C91938F6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6CBCE-57F9-4859-94FC-387E960D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F3528-F524-49C1-8410-9EA2932F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34358-E33D-4FA2-89A9-2D45CD21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3171F-99FD-4E5B-8001-111B26EF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5A8A5-E843-4ECB-B38C-329C3CB0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AFD5C-6B13-4F98-9F39-88896DCC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06BF0-FDB1-439D-9E4D-E73EFE3E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84084-F43A-4EAC-AF89-9C853D78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751-B179-4524-AA91-054A793B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5D0F-2026-4A78-8910-021E1EBA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24A9C-AD64-4B47-909C-79197C50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68BA-965A-41D9-A0DF-05A64FFC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CBDAC-5D75-46FD-857F-6BE55A19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65C98-5CFD-4DEE-B3F1-D97E7BDF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2F52-6755-4089-8A21-78797376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472FD-15C7-4B3F-B74C-3BE84C0F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544CD-271D-4975-AEF3-D335EF32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DFF2D-A580-4E27-A8EA-56FFDDB7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30B-F6AA-4D29-88DA-6EB8CD9F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A54-72A5-4B64-A7B4-F795DFA0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B85-9750-4084-9949-979AE366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65A-0C54-4C01-8CB6-C38BE8FD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0D1-BF77-40DB-B5E1-ECCD305E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6AA86D2A-6F96-4950-8512-B8D96D1614AF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0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8b8b8b"/>
                </a:solidFill>
                <a:latin typeface="Calibri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D25852CD-4D26-4733-9FB3-15878255CD44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8C70F869-A6F2-4E32-87E1-B1E28913209E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200" spc="-1" strike="noStrike">
                <a:solidFill>
                  <a:schemeClr val="hlink"/>
                </a:solidFill>
                <a:latin typeface="Times New Roman"/>
              </a:rPr>
              <a:t>Click to edit the title text format</a:t>
            </a:r>
            <a:endParaRPr b="0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1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B9DE05C5-5136-4BD6-AC9C-D43B56877C7F}" type="slidenum">
              <a:rPr b="1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ounded Rectangle 9"/>
          <p:cNvSpPr/>
          <p:nvPr/>
        </p:nvSpPr>
        <p:spPr>
          <a:xfrm>
            <a:off x="685800" y="1676520"/>
            <a:ext cx="8152920" cy="4536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0520" bIns="2052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GB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65" name="Rounded Rectangle 10"/>
          <p:cNvSpPr/>
          <p:nvPr/>
        </p:nvSpPr>
        <p:spPr>
          <a:xfrm>
            <a:off x="533520" y="1257840"/>
            <a:ext cx="8152920" cy="1570680"/>
          </a:xfrm>
          <a:prstGeom prst="roundRect">
            <a:avLst>
              <a:gd name="adj" fmla="val 16667"/>
            </a:avLst>
          </a:prstGeom>
          <a:solidFill>
            <a:schemeClr val="accent1">
              <a:lumMod val="7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numCol="1" spcCol="0" anchor="t">
            <a:spAutoFit/>
          </a:bodyPr>
          <a:p>
            <a:pPr marL="182880"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deling and Analysis of SVPW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880"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sed 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Dynamic Voltage Rest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lowchart: Process 35"/>
          <p:cNvSpPr/>
          <p:nvPr/>
        </p:nvSpPr>
        <p:spPr>
          <a:xfrm>
            <a:off x="5334120" y="3809880"/>
            <a:ext cx="1904760" cy="10965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lowchart: Process 29"/>
          <p:cNvSpPr/>
          <p:nvPr/>
        </p:nvSpPr>
        <p:spPr>
          <a:xfrm>
            <a:off x="5257800" y="2590920"/>
            <a:ext cx="2057040" cy="11883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lowchart: Process 31"/>
          <p:cNvSpPr/>
          <p:nvPr/>
        </p:nvSpPr>
        <p:spPr>
          <a:xfrm>
            <a:off x="7620120" y="1143000"/>
            <a:ext cx="1294920" cy="169092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5250"/>
              </a:spcBef>
              <a:tabLst>
                <a:tab algn="l" pos="0"/>
              </a:tabLst>
            </a:pPr>
            <a:r>
              <a:rPr b="1" lang="en-US" sz="105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lowchart: Process 33"/>
          <p:cNvSpPr/>
          <p:nvPr/>
        </p:nvSpPr>
        <p:spPr>
          <a:xfrm>
            <a:off x="8001000" y="2819520"/>
            <a:ext cx="990360" cy="11883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lowchart: Process 37"/>
          <p:cNvSpPr/>
          <p:nvPr/>
        </p:nvSpPr>
        <p:spPr>
          <a:xfrm>
            <a:off x="3352680" y="5486400"/>
            <a:ext cx="2057040" cy="11883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lowchart: Process 25"/>
          <p:cNvSpPr/>
          <p:nvPr/>
        </p:nvSpPr>
        <p:spPr>
          <a:xfrm>
            <a:off x="2514600" y="1295280"/>
            <a:ext cx="1371240" cy="262080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8300"/>
              </a:spcBef>
              <a:tabLst>
                <a:tab algn="l" pos="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1523880" y="990720"/>
            <a:ext cx="6552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simulation of the power circu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14C7AB4-D7F2-45D2-AB9A-2008FCE8FB5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1F5C931-2220-4CF1-A120-9BE7D1E86FE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6CA7DF3-B4D1-4CD4-BE50-086252E4907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20E096C-5E05-4C10-9487-6D66C106A34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5F65620-CE7B-462E-8B25-F625DED1DEF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17ED4C9-40C9-476E-880E-17B75F0168B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399A0218-1FB5-41DB-9972-549477FDBC1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2E98113F-EB87-4824-B8B3-46F9D217ABA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7391160" cy="5409720"/>
          </a:xfrm>
          <a:prstGeom prst="rect">
            <a:avLst/>
          </a:prstGeom>
          <a:ln w="9525">
            <a:noFill/>
          </a:ln>
        </p:spPr>
      </p:pic>
      <p:sp>
        <p:nvSpPr>
          <p:cNvPr id="415" name="Flowchart: Process 23"/>
          <p:cNvSpPr/>
          <p:nvPr/>
        </p:nvSpPr>
        <p:spPr>
          <a:xfrm>
            <a:off x="1523880" y="2819520"/>
            <a:ext cx="990360" cy="10965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ounded Rectangular Callout 24"/>
          <p:cNvSpPr/>
          <p:nvPr/>
        </p:nvSpPr>
        <p:spPr>
          <a:xfrm>
            <a:off x="2286000" y="4876920"/>
            <a:ext cx="1218960" cy="405360"/>
          </a:xfrm>
          <a:prstGeom prst="wedgeRoundRectCallout">
            <a:avLst>
              <a:gd name="adj1" fmla="val -70495"/>
              <a:gd name="adj2" fmla="val -26821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ounded Rectangular Callout 26"/>
          <p:cNvSpPr/>
          <p:nvPr/>
        </p:nvSpPr>
        <p:spPr>
          <a:xfrm>
            <a:off x="1600200" y="4876920"/>
            <a:ext cx="1676160" cy="709200"/>
          </a:xfrm>
          <a:prstGeom prst="wedgeRoundRectCallout">
            <a:avLst>
              <a:gd name="adj1" fmla="val 63691"/>
              <a:gd name="adj2" fmla="val -178531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g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lowchart: Process 27"/>
          <p:cNvSpPr/>
          <p:nvPr/>
        </p:nvSpPr>
        <p:spPr>
          <a:xfrm>
            <a:off x="4343400" y="1295280"/>
            <a:ext cx="1294920" cy="1096560"/>
          </a:xfrm>
          <a:prstGeom prst="flowChartProcess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ounded Rectangular Callout 28"/>
          <p:cNvSpPr/>
          <p:nvPr/>
        </p:nvSpPr>
        <p:spPr>
          <a:xfrm>
            <a:off x="5943600" y="1600200"/>
            <a:ext cx="1676160" cy="709200"/>
          </a:xfrm>
          <a:prstGeom prst="wedgeRoundRectCallout">
            <a:avLst>
              <a:gd name="adj1" fmla="val -66612"/>
              <a:gd name="adj2" fmla="val -55987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g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ounded Rectangular Callout 30"/>
          <p:cNvSpPr/>
          <p:nvPr/>
        </p:nvSpPr>
        <p:spPr>
          <a:xfrm>
            <a:off x="3505320" y="1981080"/>
            <a:ext cx="1676160" cy="709200"/>
          </a:xfrm>
          <a:prstGeom prst="wedgeRoundRectCallout">
            <a:avLst>
              <a:gd name="adj1" fmla="val 52327"/>
              <a:gd name="adj2" fmla="val 91421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pass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ounded Rectangular Callout 32"/>
          <p:cNvSpPr/>
          <p:nvPr/>
        </p:nvSpPr>
        <p:spPr>
          <a:xfrm>
            <a:off x="4800600" y="838080"/>
            <a:ext cx="2361960" cy="709200"/>
          </a:xfrm>
          <a:prstGeom prst="wedgeRoundRectCallout">
            <a:avLst>
              <a:gd name="adj1" fmla="val 68066"/>
              <a:gd name="adj2" fmla="val 144701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pass switche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ounded Rectangular Callout 34"/>
          <p:cNvSpPr/>
          <p:nvPr/>
        </p:nvSpPr>
        <p:spPr>
          <a:xfrm>
            <a:off x="7391520" y="5105520"/>
            <a:ext cx="1066320" cy="405360"/>
          </a:xfrm>
          <a:prstGeom prst="wedgeRoundRectCallout">
            <a:avLst>
              <a:gd name="adj1" fmla="val 64016"/>
              <a:gd name="adj2" fmla="val -308623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ular Callout 36"/>
          <p:cNvSpPr/>
          <p:nvPr/>
        </p:nvSpPr>
        <p:spPr>
          <a:xfrm>
            <a:off x="7086600" y="5334120"/>
            <a:ext cx="2057040" cy="709200"/>
          </a:xfrm>
          <a:prstGeom prst="wedgeRoundRectCallout">
            <a:avLst>
              <a:gd name="adj1" fmla="val -63761"/>
              <a:gd name="adj2" fmla="val -10615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jection trans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ounded Rectangular Callout 38"/>
          <p:cNvSpPr/>
          <p:nvPr/>
        </p:nvSpPr>
        <p:spPr>
          <a:xfrm>
            <a:off x="1752480" y="4267080"/>
            <a:ext cx="1828440" cy="709200"/>
          </a:xfrm>
          <a:prstGeom prst="wedgeRoundRectCallout">
            <a:avLst>
              <a:gd name="adj1" fmla="val 104600"/>
              <a:gd name="adj2" fmla="val 116285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e phase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ight Arrow 39"/>
          <p:cNvSpPr/>
          <p:nvPr/>
        </p:nvSpPr>
        <p:spPr>
          <a:xfrm>
            <a:off x="2743200" y="5791320"/>
            <a:ext cx="596880" cy="549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26" name="TextBox 40"/>
          <p:cNvSpPr/>
          <p:nvPr/>
        </p:nvSpPr>
        <p:spPr>
          <a:xfrm>
            <a:off x="1452240" y="5715000"/>
            <a:ext cx="1278360" cy="752760"/>
          </a:xfrm>
          <a:prstGeom prst="rect">
            <a:avLst/>
          </a:prstGeom>
          <a:solidFill>
            <a:srgbClr val="965412">
              <a:alpha val="65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280"/>
                            </p:stCondLst>
                            <p:childTnLst>
                              <p:par>
                                <p:cTn id="8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2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2"/>
          <p:cNvSpPr/>
          <p:nvPr/>
        </p:nvSpPr>
        <p:spPr>
          <a:xfrm>
            <a:off x="1523880" y="990720"/>
            <a:ext cx="6552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simulation of the control circu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95A5B0C-CD08-42A8-B832-127DB8F5086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5984345-C92D-4BF3-83A7-CC81ABB8907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99B90E0-5F00-4796-BE70-E1C66905D2E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D303DFE-27D9-4C07-8E26-FED108C4BB0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1A1497DF-78C8-40FC-802F-9414BA94D9D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28ABA16-BCEC-47FD-8B13-E566D742682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297F3DEF-D2E5-4324-BD11-04A75679A4D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5FE38BEA-B9E6-465B-B277-D816ACAAC0E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1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781320" cy="2895120"/>
          </a:xfrm>
          <a:prstGeom prst="rect">
            <a:avLst/>
          </a:prstGeom>
          <a:ln w="9525">
            <a:noFill/>
          </a:ln>
        </p:spPr>
      </p:pic>
      <p:sp>
        <p:nvSpPr>
          <p:cNvPr id="440" name="TextBox 43"/>
          <p:cNvSpPr/>
          <p:nvPr/>
        </p:nvSpPr>
        <p:spPr>
          <a:xfrm>
            <a:off x="7242480" y="5334120"/>
            <a:ext cx="1004040" cy="752760"/>
          </a:xfrm>
          <a:prstGeom prst="rect">
            <a:avLst/>
          </a:prstGeom>
          <a:solidFill>
            <a:srgbClr val="965412">
              <a:alpha val="65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urved Left Arrow 46"/>
          <p:cNvSpPr/>
          <p:nvPr/>
        </p:nvSpPr>
        <p:spPr>
          <a:xfrm>
            <a:off x="8229600" y="4343400"/>
            <a:ext cx="731160" cy="155412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c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4799"/>
              </a:spcBef>
              <a:tabLst>
                <a:tab algn="l" pos="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47"/>
          <p:cNvSpPr/>
          <p:nvPr/>
        </p:nvSpPr>
        <p:spPr>
          <a:xfrm>
            <a:off x="7418160" y="4343400"/>
            <a:ext cx="598680" cy="2419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ve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9"/>
          <p:cNvSpPr/>
          <p:nvPr/>
        </p:nvSpPr>
        <p:spPr>
          <a:xfrm>
            <a:off x="3733920" y="3886200"/>
            <a:ext cx="511200" cy="2419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P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ounded Rectangular Callout 51"/>
          <p:cNvSpPr/>
          <p:nvPr/>
        </p:nvSpPr>
        <p:spPr>
          <a:xfrm>
            <a:off x="1371600" y="5486400"/>
            <a:ext cx="2361960" cy="835920"/>
          </a:xfrm>
          <a:prstGeom prst="wedgeRoundRectCallout">
            <a:avLst>
              <a:gd name="adj1" fmla="val -17443"/>
              <a:gd name="adj2" fmla="val -255213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c to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ounded Rectangular Callout 52"/>
          <p:cNvSpPr/>
          <p:nvPr/>
        </p:nvSpPr>
        <p:spPr>
          <a:xfrm>
            <a:off x="1447920" y="1295280"/>
            <a:ext cx="2209320" cy="835920"/>
          </a:xfrm>
          <a:prstGeom prst="wedgeRoundRectCallout">
            <a:avLst>
              <a:gd name="adj1" fmla="val 26106"/>
              <a:gd name="adj2" fmla="val 127985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αβ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 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53"/>
          <p:cNvSpPr/>
          <p:nvPr/>
        </p:nvSpPr>
        <p:spPr>
          <a:xfrm>
            <a:off x="3657600" y="2057400"/>
            <a:ext cx="83772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ounded Rectangular Callout 54"/>
          <p:cNvSpPr/>
          <p:nvPr/>
        </p:nvSpPr>
        <p:spPr>
          <a:xfrm>
            <a:off x="3733920" y="1371600"/>
            <a:ext cx="990360" cy="405360"/>
          </a:xfrm>
          <a:prstGeom prst="wedgeRoundRectCallout">
            <a:avLst>
              <a:gd name="adj1" fmla="val -20048"/>
              <a:gd name="adj2" fmla="val 195584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ounded Rectangular Callout 55"/>
          <p:cNvSpPr/>
          <p:nvPr/>
        </p:nvSpPr>
        <p:spPr>
          <a:xfrm>
            <a:off x="3809880" y="5562720"/>
            <a:ext cx="1752120" cy="709200"/>
          </a:xfrm>
          <a:prstGeom prst="wedgeRoundRectCallout">
            <a:avLst>
              <a:gd name="adj1" fmla="val -29762"/>
              <a:gd name="adj2" fmla="val -21258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LL to generate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ounded Rectangular Callout 56"/>
          <p:cNvSpPr/>
          <p:nvPr/>
        </p:nvSpPr>
        <p:spPr>
          <a:xfrm>
            <a:off x="4724280" y="1371600"/>
            <a:ext cx="990360" cy="405360"/>
          </a:xfrm>
          <a:prstGeom prst="wedgeRoundRectCallout">
            <a:avLst>
              <a:gd name="adj1" fmla="val -54984"/>
              <a:gd name="adj2" fmla="val 136532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ounded Rectangular Callout 58"/>
          <p:cNvSpPr/>
          <p:nvPr/>
        </p:nvSpPr>
        <p:spPr>
          <a:xfrm>
            <a:off x="5791320" y="1295280"/>
            <a:ext cx="2209320" cy="835920"/>
          </a:xfrm>
          <a:prstGeom prst="wedgeRoundRectCallout">
            <a:avLst>
              <a:gd name="adj1" fmla="val -66136"/>
              <a:gd name="adj2" fmla="val 13017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q to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ounded Rectangular Callout 59"/>
          <p:cNvSpPr/>
          <p:nvPr/>
        </p:nvSpPr>
        <p:spPr>
          <a:xfrm>
            <a:off x="4724280" y="4495680"/>
            <a:ext cx="1752120" cy="1013040"/>
          </a:xfrm>
          <a:prstGeom prst="wedgeRoundRectCallout">
            <a:avLst>
              <a:gd name="adj1" fmla="val -47153"/>
              <a:gd name="adj2" fmla="val -84184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θ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30 to compensate delta/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ounded Rectangular Callout 60"/>
          <p:cNvSpPr/>
          <p:nvPr/>
        </p:nvSpPr>
        <p:spPr>
          <a:xfrm>
            <a:off x="7162920" y="2286000"/>
            <a:ext cx="1752120" cy="1013040"/>
          </a:xfrm>
          <a:prstGeom prst="wedgeRoundRectCallout">
            <a:avLst>
              <a:gd name="adj1" fmla="val -109472"/>
              <a:gd name="adj2" fmla="val -8349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√3 to compensate delta/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ounded Rectangular Callout 61"/>
          <p:cNvSpPr/>
          <p:nvPr/>
        </p:nvSpPr>
        <p:spPr>
          <a:xfrm>
            <a:off x="4800600" y="4419720"/>
            <a:ext cx="1752120" cy="1013040"/>
          </a:xfrm>
          <a:prstGeom prst="wedgeRoundRectCallout">
            <a:avLst>
              <a:gd name="adj1" fmla="val 53571"/>
              <a:gd name="adj2" fmla="val -145456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VPWM to generate pu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ounded Rectangular Callout 62"/>
          <p:cNvSpPr/>
          <p:nvPr/>
        </p:nvSpPr>
        <p:spPr>
          <a:xfrm>
            <a:off x="8077320" y="2133720"/>
            <a:ext cx="837720" cy="405360"/>
          </a:xfrm>
          <a:prstGeom prst="wedgeRoundRectCallout">
            <a:avLst>
              <a:gd name="adj1" fmla="val -199157"/>
              <a:gd name="adj2" fmla="val 49508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ounded Rectangular Callout 63"/>
          <p:cNvSpPr/>
          <p:nvPr/>
        </p:nvSpPr>
        <p:spPr>
          <a:xfrm>
            <a:off x="5638680" y="5715000"/>
            <a:ext cx="1218960" cy="709200"/>
          </a:xfrm>
          <a:prstGeom prst="wedgeRoundRectCallout">
            <a:avLst>
              <a:gd name="adj1" fmla="val 54631"/>
              <a:gd name="adj2" fmla="val -172936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ounded Rectangular Callout 64"/>
          <p:cNvSpPr/>
          <p:nvPr/>
        </p:nvSpPr>
        <p:spPr>
          <a:xfrm>
            <a:off x="7772400" y="3429000"/>
            <a:ext cx="1371240" cy="405360"/>
          </a:xfrm>
          <a:prstGeom prst="wedgeRoundRectCallout">
            <a:avLst>
              <a:gd name="adj1" fmla="val -49073"/>
              <a:gd name="adj2" fmla="val 97460"/>
              <a:gd name="adj3" fmla="val 16667"/>
            </a:avLst>
          </a:prstGeom>
          <a:solidFill>
            <a:srgbClr val="ffc000">
              <a:alpha val="65000"/>
            </a:srgbClr>
          </a:solidFill>
          <a:ln w="2857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360"/>
                            </p:stCondLst>
                            <p:childTnLst>
                              <p:par>
                                <p:cTn id="10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5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571640" cy="3952440"/>
          </a:xfrm>
          <a:prstGeom prst="rect">
            <a:avLst/>
          </a:prstGeom>
          <a:ln w="9525">
            <a:noFill/>
          </a:ln>
        </p:spPr>
      </p:pic>
      <p:sp>
        <p:nvSpPr>
          <p:cNvPr id="45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8126AF2-8386-4CDE-9C8B-342AA82ACE1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7859F98-97A3-4715-BB26-1D27F283AE7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EA02A23-6CB9-434E-98ED-D7E4AA58FE6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BD39AF0-9060-4626-A5FB-4AD47F943FB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EBA9ED3-F3D2-4CB2-8710-947492476D0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326D29C-211B-4CF9-A25E-73FD59A8B85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93C4C43E-79B3-4CC9-BC5F-26284AC5CAD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37921A3E-7240-4347-8E10-B93003CD61B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3733920" y="380880"/>
            <a:ext cx="5409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imulati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5"/>
          <p:cNvSpPr/>
          <p:nvPr/>
        </p:nvSpPr>
        <p:spPr>
          <a:xfrm>
            <a:off x="1523880" y="990720"/>
            <a:ext cx="74671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load voltage: is the phase voltage of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DVR voltage : is the injected voltage in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th the load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7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5431CB4-0D14-4B84-ACA9-1DCAB8044D3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F08C4C8-7C8E-4690-8A8E-C08D58499FA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AC525D4-25E5-4217-B7A6-A238080ABC7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5357DFF-4839-4DC4-AF06-A9D0CEC21C8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0EE9803-F515-48E2-87CB-0F6F411F8ED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3996A8A-891A-491D-B25A-89F50C3C8FA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6B0D8AE-3F2E-4C25-9721-5913E494139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38FA71D7-C019-4F07-95AB-82EC351B83B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5A78BE2D-AEC0-4473-A67E-A511FEA51E2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Curved Down Arrow 92"/>
          <p:cNvSpPr/>
          <p:nvPr/>
        </p:nvSpPr>
        <p:spPr>
          <a:xfrm>
            <a:off x="5105520" y="2971800"/>
            <a:ext cx="990360" cy="273960"/>
          </a:xfrm>
          <a:prstGeom prst="curvedDownArrow">
            <a:avLst>
              <a:gd name="adj1" fmla="val 24299"/>
              <a:gd name="adj2" fmla="val 50000"/>
              <a:gd name="adj3" fmla="val 28472"/>
            </a:avLst>
          </a:prstGeom>
          <a:solidFill>
            <a:srgbClr val="c00000"/>
          </a:solidFill>
          <a:ln w="6350">
            <a:solidFill>
              <a:srgbClr val="000000"/>
            </a:solidFill>
            <a:round/>
          </a:ln>
          <a:scene3d>
            <a:camera prst="orthographicFront">
              <a:rot lat="0" lon="10800000" rev="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81" name="TextBox 93"/>
          <p:cNvSpPr/>
          <p:nvPr/>
        </p:nvSpPr>
        <p:spPr>
          <a:xfrm>
            <a:off x="4886640" y="2590920"/>
            <a:ext cx="1522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DVR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urved Down Arrow 94"/>
          <p:cNvSpPr/>
          <p:nvPr/>
        </p:nvSpPr>
        <p:spPr>
          <a:xfrm>
            <a:off x="6172200" y="2971800"/>
            <a:ext cx="990360" cy="273960"/>
          </a:xfrm>
          <a:prstGeom prst="curvedDownArrow">
            <a:avLst>
              <a:gd name="adj1" fmla="val 24299"/>
              <a:gd name="adj2" fmla="val 50000"/>
              <a:gd name="adj3" fmla="val 28472"/>
            </a:avLst>
          </a:prstGeom>
          <a:solidFill>
            <a:srgbClr val="c00000"/>
          </a:solidFill>
          <a:ln w="6350">
            <a:solidFill>
              <a:srgbClr val="000000"/>
            </a:solidFill>
            <a:round/>
          </a:ln>
          <a:scene3d>
            <a:camera prst="orthographicFront">
              <a:rot lat="0" lon="10800000" rev="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483" name="TextBox 95"/>
          <p:cNvSpPr/>
          <p:nvPr/>
        </p:nvSpPr>
        <p:spPr>
          <a:xfrm>
            <a:off x="6563520" y="2666880"/>
            <a:ext cx="16441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Load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0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8" dur="8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8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680"/>
                            </p:stCondLst>
                            <p:childTnLst>
                              <p:par>
                                <p:cTn id="1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3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2" dur="8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8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720"/>
                            </p:stCondLst>
                            <p:childTnLst>
                              <p:par>
                                <p:cTn id="1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2480"/>
                            </p:stCondLst>
                            <p:childTnLst>
                              <p:par>
                                <p:cTn id="1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2DBF43A-0181-4DA4-AC49-9CEF84F85D8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2316CA3-1CF3-4732-B0F0-03388E90F0F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7CAA983-F1AB-47FC-9826-B38C37F9995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221D17E-4F30-4A96-B515-B1C33AAE7A5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5D5489F-421E-4064-B4ED-2EC4649B3C2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EBE3734-AD10-48A7-99EF-DC27078EB81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60BFDC99-3E0E-4B43-BFD6-BEC79CE85D5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2E9D3B41-6F7C-425A-9B79-874930022F4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graphicFrame>
        <p:nvGraphicFramePr>
          <p:cNvPr id="493" name="Object 14"/>
          <p:cNvGraphicFramePr/>
          <p:nvPr/>
        </p:nvGraphicFramePr>
        <p:xfrm>
          <a:off x="3505320" y="838080"/>
          <a:ext cx="3304440" cy="2514240"/>
        </p:xfrm>
        <a:graphic>
          <a:graphicData uri="http://schemas.openxmlformats.org/presentationml/2006/ole">
            <p:oleObj progId="PBrush" r:id="rId1" spid="">
              <p:embed/>
              <p:pic>
                <p:nvPicPr>
                  <p:cNvPr id="49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838080"/>
                    <a:ext cx="3304440" cy="25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5" name="Group 8"/>
          <p:cNvGrpSpPr/>
          <p:nvPr/>
        </p:nvGrpSpPr>
        <p:grpSpPr>
          <a:xfrm>
            <a:off x="1447920" y="1371600"/>
            <a:ext cx="2061000" cy="463680"/>
            <a:chOff x="1447920" y="1371600"/>
            <a:chExt cx="2061000" cy="463680"/>
          </a:xfrm>
        </p:grpSpPr>
        <p:sp>
          <p:nvSpPr>
            <p:cNvPr id="496" name="AutoShape 9"/>
            <p:cNvSpPr/>
            <p:nvPr/>
          </p:nvSpPr>
          <p:spPr>
            <a:xfrm>
              <a:off x="2679840" y="137160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497" name="AutoShape 10"/>
            <p:cNvSpPr/>
            <p:nvPr/>
          </p:nvSpPr>
          <p:spPr>
            <a:xfrm>
              <a:off x="1447920" y="142488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11"/>
          <p:cNvGrpSpPr/>
          <p:nvPr/>
        </p:nvGrpSpPr>
        <p:grpSpPr>
          <a:xfrm>
            <a:off x="1447920" y="2057400"/>
            <a:ext cx="2061000" cy="465480"/>
            <a:chOff x="1447920" y="2057400"/>
            <a:chExt cx="2061000" cy="465480"/>
          </a:xfrm>
        </p:grpSpPr>
        <p:sp>
          <p:nvSpPr>
            <p:cNvPr id="499" name="AutoShape 12"/>
            <p:cNvSpPr/>
            <p:nvPr/>
          </p:nvSpPr>
          <p:spPr>
            <a:xfrm>
              <a:off x="2679840" y="205740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00" name="AutoShape 13"/>
            <p:cNvSpPr/>
            <p:nvPr/>
          </p:nvSpPr>
          <p:spPr>
            <a:xfrm>
              <a:off x="1447920" y="211104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63"/>
          <p:cNvGrpSpPr/>
          <p:nvPr/>
        </p:nvGrpSpPr>
        <p:grpSpPr>
          <a:xfrm>
            <a:off x="4876920" y="1752480"/>
            <a:ext cx="914040" cy="1065600"/>
            <a:chOff x="4876920" y="1752480"/>
            <a:chExt cx="914040" cy="1065600"/>
          </a:xfrm>
        </p:grpSpPr>
        <p:cxnSp>
          <p:nvCxnSpPr>
            <p:cNvPr id="502" name="AutoShape 6"/>
            <p:cNvCxnSpPr/>
            <p:nvPr/>
          </p:nvCxnSpPr>
          <p:spPr>
            <a:xfrm flipV="1">
              <a:off x="5333760" y="1752480"/>
              <a:ext cx="360" cy="721080"/>
            </a:xfrm>
            <a:prstGeom prst="straightConnector1">
              <a:avLst/>
            </a:prstGeom>
            <a:ln w="15875">
              <a:solidFill>
                <a:srgbClr val="c00000"/>
              </a:solidFill>
              <a:prstDash val="dash"/>
              <a:round/>
              <a:tailEnd len="med" type="triangle" w="med"/>
            </a:ln>
          </p:spPr>
        </p:cxnSp>
        <p:sp>
          <p:nvSpPr>
            <p:cNvPr id="503" name="Flowchart: Alternate Process 65"/>
            <p:cNvSpPr/>
            <p:nvPr/>
          </p:nvSpPr>
          <p:spPr>
            <a:xfrm>
              <a:off x="4876920" y="2514600"/>
              <a:ext cx="914040" cy="303480"/>
            </a:xfrm>
            <a:prstGeom prst="flowChartAlternateProcess">
              <a:avLst/>
            </a:prstGeom>
            <a:solidFill>
              <a:schemeClr val="bg1"/>
            </a:solidFill>
            <a:ln w="15875">
              <a:solidFill>
                <a:srgbClr val="c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Sag 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66"/>
          <p:cNvSpPr/>
          <p:nvPr/>
        </p:nvSpPr>
        <p:spPr>
          <a:xfrm>
            <a:off x="1523880" y="3049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7"/>
          <p:cNvSpPr/>
          <p:nvPr/>
        </p:nvSpPr>
        <p:spPr>
          <a:xfrm>
            <a:off x="4800600" y="3049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9"/>
          <p:cNvSpPr/>
          <p:nvPr/>
        </p:nvSpPr>
        <p:spPr>
          <a:xfrm>
            <a:off x="1676520" y="35053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0"/>
          <p:cNvSpPr/>
          <p:nvPr/>
        </p:nvSpPr>
        <p:spPr>
          <a:xfrm>
            <a:off x="4952880" y="350532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Object 3"/>
          <p:cNvGraphicFramePr/>
          <p:nvPr/>
        </p:nvGraphicFramePr>
        <p:xfrm>
          <a:off x="3477960" y="4114800"/>
          <a:ext cx="3415320" cy="2514240"/>
        </p:xfrm>
        <a:graphic>
          <a:graphicData uri="http://schemas.openxmlformats.org/presentationml/2006/ole">
            <p:oleObj progId="PBrush" r:id="rId3" spid="">
              <p:embed/>
              <p:pic>
                <p:nvPicPr>
                  <p:cNvPr id="5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7960" y="4114800"/>
                    <a:ext cx="3415320" cy="25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0" name="Group 8"/>
          <p:cNvGrpSpPr/>
          <p:nvPr/>
        </p:nvGrpSpPr>
        <p:grpSpPr>
          <a:xfrm>
            <a:off x="1676520" y="4724280"/>
            <a:ext cx="2061000" cy="463680"/>
            <a:chOff x="1676520" y="4724280"/>
            <a:chExt cx="2061000" cy="463680"/>
          </a:xfrm>
        </p:grpSpPr>
        <p:sp>
          <p:nvSpPr>
            <p:cNvPr id="511" name="AutoShape 9"/>
            <p:cNvSpPr/>
            <p:nvPr/>
          </p:nvSpPr>
          <p:spPr>
            <a:xfrm>
              <a:off x="2908440" y="472428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12" name="AutoShape 10"/>
            <p:cNvSpPr/>
            <p:nvPr/>
          </p:nvSpPr>
          <p:spPr>
            <a:xfrm>
              <a:off x="1676520" y="477792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1"/>
          <p:cNvGrpSpPr/>
          <p:nvPr/>
        </p:nvGrpSpPr>
        <p:grpSpPr>
          <a:xfrm>
            <a:off x="1676520" y="5334120"/>
            <a:ext cx="2061000" cy="465480"/>
            <a:chOff x="1676520" y="5334120"/>
            <a:chExt cx="2061000" cy="465480"/>
          </a:xfrm>
        </p:grpSpPr>
        <p:sp>
          <p:nvSpPr>
            <p:cNvPr id="514" name="AutoShape 12"/>
            <p:cNvSpPr/>
            <p:nvPr/>
          </p:nvSpPr>
          <p:spPr>
            <a:xfrm>
              <a:off x="2908440" y="533412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15" name="AutoShape 13"/>
            <p:cNvSpPr/>
            <p:nvPr/>
          </p:nvSpPr>
          <p:spPr>
            <a:xfrm>
              <a:off x="1676520" y="538740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400"/>
                            </p:stCondLst>
                            <p:childTnLst>
                              <p:par>
                                <p:cTn id="1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0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760"/>
                            </p:stCondLst>
                            <p:childTnLst>
                              <p:par>
                                <p:cTn id="1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0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820"/>
                            </p:stCondLst>
                            <p:childTnLst>
                              <p:par>
                                <p:cTn id="1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Object 3"/>
          <p:cNvGraphicFramePr/>
          <p:nvPr/>
        </p:nvGraphicFramePr>
        <p:xfrm>
          <a:off x="3505320" y="762120"/>
          <a:ext cx="3352320" cy="2561760"/>
        </p:xfrm>
        <a:graphic>
          <a:graphicData uri="http://schemas.openxmlformats.org/presentationml/2006/ole">
            <p:oleObj progId="PBrush" r:id="rId1" spid="">
              <p:embed/>
              <p:pic>
                <p:nvPicPr>
                  <p:cNvPr id="5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762120"/>
                    <a:ext cx="3352320" cy="25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BC675B5-4825-4396-AE65-E8F96A6AACB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099CA05-BB24-44BC-94E9-92CC47FB2BA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D8FFD21-B657-4407-8E54-20687D90F81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B4882F5C-8123-4314-950E-0068256A65C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3BAFC7E-98C3-4DF9-A8D2-1381B423D0A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285FF7A-3A61-4D21-B2DA-AC137EF3E55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449AF55F-84C5-4AFA-82EF-173EF40C615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4FAF9F13-22F6-4C62-AC4F-83B4354FBD5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676520" y="1295280"/>
            <a:ext cx="2061000" cy="463680"/>
            <a:chOff x="1676520" y="1295280"/>
            <a:chExt cx="2061000" cy="463680"/>
          </a:xfrm>
        </p:grpSpPr>
        <p:sp>
          <p:nvSpPr>
            <p:cNvPr id="528" name="AutoShape 9"/>
            <p:cNvSpPr/>
            <p:nvPr/>
          </p:nvSpPr>
          <p:spPr>
            <a:xfrm>
              <a:off x="2908440" y="129528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29" name="AutoShape 10"/>
            <p:cNvSpPr/>
            <p:nvPr/>
          </p:nvSpPr>
          <p:spPr>
            <a:xfrm>
              <a:off x="1676520" y="134892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1"/>
          <p:cNvGrpSpPr/>
          <p:nvPr/>
        </p:nvGrpSpPr>
        <p:grpSpPr>
          <a:xfrm>
            <a:off x="1676520" y="1905120"/>
            <a:ext cx="2061000" cy="465480"/>
            <a:chOff x="1676520" y="1905120"/>
            <a:chExt cx="2061000" cy="465480"/>
          </a:xfrm>
        </p:grpSpPr>
        <p:sp>
          <p:nvSpPr>
            <p:cNvPr id="531" name="AutoShape 12"/>
            <p:cNvSpPr/>
            <p:nvPr/>
          </p:nvSpPr>
          <p:spPr>
            <a:xfrm>
              <a:off x="2908440" y="190512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32" name="AutoShape 13"/>
            <p:cNvSpPr/>
            <p:nvPr/>
          </p:nvSpPr>
          <p:spPr>
            <a:xfrm>
              <a:off x="1676520" y="195840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63"/>
          <p:cNvGrpSpPr/>
          <p:nvPr/>
        </p:nvGrpSpPr>
        <p:grpSpPr>
          <a:xfrm>
            <a:off x="4800600" y="1752480"/>
            <a:ext cx="914040" cy="902520"/>
            <a:chOff x="4800600" y="1752480"/>
            <a:chExt cx="914040" cy="902520"/>
          </a:xfrm>
        </p:grpSpPr>
        <p:cxnSp>
          <p:nvCxnSpPr>
            <p:cNvPr id="534" name="AutoShape 6"/>
            <p:cNvCxnSpPr/>
            <p:nvPr/>
          </p:nvCxnSpPr>
          <p:spPr>
            <a:xfrm flipV="1">
              <a:off x="5257800" y="1752480"/>
              <a:ext cx="360" cy="566640"/>
            </a:xfrm>
            <a:prstGeom prst="straightConnector1">
              <a:avLst/>
            </a:prstGeom>
            <a:ln w="15875">
              <a:solidFill>
                <a:srgbClr val="c00000"/>
              </a:solidFill>
              <a:prstDash val="dash"/>
              <a:round/>
              <a:tailEnd len="med" type="triangle" w="med"/>
            </a:ln>
          </p:spPr>
        </p:cxnSp>
        <p:sp>
          <p:nvSpPr>
            <p:cNvPr id="535" name="Flowchart: Alternate Process 65"/>
            <p:cNvSpPr/>
            <p:nvPr/>
          </p:nvSpPr>
          <p:spPr>
            <a:xfrm>
              <a:off x="4800600" y="2351520"/>
              <a:ext cx="914040" cy="303480"/>
            </a:xfrm>
            <a:prstGeom prst="flowChartAlternateProcess">
              <a:avLst/>
            </a:prstGeom>
            <a:solidFill>
              <a:schemeClr val="bg1"/>
            </a:solidFill>
            <a:ln w="15875">
              <a:solidFill>
                <a:srgbClr val="c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Sag 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66"/>
          <p:cNvSpPr/>
          <p:nvPr/>
        </p:nvSpPr>
        <p:spPr>
          <a:xfrm>
            <a:off x="1523880" y="22860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7"/>
          <p:cNvSpPr/>
          <p:nvPr/>
        </p:nvSpPr>
        <p:spPr>
          <a:xfrm>
            <a:off x="4800600" y="22860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graphicFrame>
        <p:nvGraphicFramePr>
          <p:cNvPr id="540" name="Object 7"/>
          <p:cNvGraphicFramePr/>
          <p:nvPr/>
        </p:nvGraphicFramePr>
        <p:xfrm>
          <a:off x="3581280" y="3962520"/>
          <a:ext cx="3218400" cy="2590560"/>
        </p:xfrm>
        <a:graphic>
          <a:graphicData uri="http://schemas.openxmlformats.org/presentationml/2006/ole">
            <p:oleObj progId="PBrush" r:id="rId3" spid="">
              <p:embed/>
              <p:pic>
                <p:nvPicPr>
                  <p:cNvPr id="54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962520"/>
                    <a:ext cx="32184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2" name="Group 8"/>
          <p:cNvGrpSpPr/>
          <p:nvPr/>
        </p:nvGrpSpPr>
        <p:grpSpPr>
          <a:xfrm>
            <a:off x="1676520" y="4572000"/>
            <a:ext cx="2061000" cy="463680"/>
            <a:chOff x="1676520" y="4572000"/>
            <a:chExt cx="2061000" cy="463680"/>
          </a:xfrm>
        </p:grpSpPr>
        <p:sp>
          <p:nvSpPr>
            <p:cNvPr id="543" name="AutoShape 9"/>
            <p:cNvSpPr/>
            <p:nvPr/>
          </p:nvSpPr>
          <p:spPr>
            <a:xfrm>
              <a:off x="2908440" y="4572000"/>
              <a:ext cx="829080" cy="4636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44" name="AutoShape 10"/>
            <p:cNvSpPr/>
            <p:nvPr/>
          </p:nvSpPr>
          <p:spPr>
            <a:xfrm>
              <a:off x="1676520" y="4625280"/>
              <a:ext cx="1231560" cy="36540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Load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11"/>
          <p:cNvGrpSpPr/>
          <p:nvPr/>
        </p:nvGrpSpPr>
        <p:grpSpPr>
          <a:xfrm>
            <a:off x="1676520" y="5257800"/>
            <a:ext cx="2061000" cy="465480"/>
            <a:chOff x="1676520" y="5257800"/>
            <a:chExt cx="2061000" cy="465480"/>
          </a:xfrm>
        </p:grpSpPr>
        <p:sp>
          <p:nvSpPr>
            <p:cNvPr id="546" name="AutoShape 12"/>
            <p:cNvSpPr/>
            <p:nvPr/>
          </p:nvSpPr>
          <p:spPr>
            <a:xfrm>
              <a:off x="2908440" y="5257800"/>
              <a:ext cx="829080" cy="465480"/>
            </a:xfrm>
            <a:prstGeom prst="rightArrow">
              <a:avLst>
                <a:gd name="adj1" fmla="val 50000"/>
                <a:gd name="adj2" fmla="val 34639"/>
              </a:avLst>
            </a:prstGeom>
            <a:solidFill>
              <a:srgbClr val="c0504d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547" name="AutoShape 13"/>
            <p:cNvSpPr/>
            <p:nvPr/>
          </p:nvSpPr>
          <p:spPr>
            <a:xfrm>
              <a:off x="1676520" y="5311440"/>
              <a:ext cx="1231560" cy="366840"/>
            </a:xfrm>
            <a:prstGeom prst="flowChartAlternateProcess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en-US" sz="11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DVR Voltag</a:t>
              </a:r>
              <a:r>
                <a:rPr b="1" lang="en-US" sz="12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Rectangle 53"/>
          <p:cNvSpPr/>
          <p:nvPr/>
        </p:nvSpPr>
        <p:spPr>
          <a:xfrm>
            <a:off x="1523880" y="335268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sag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5"/>
          <p:cNvSpPr/>
          <p:nvPr/>
        </p:nvSpPr>
        <p:spPr>
          <a:xfrm>
            <a:off x="4800600" y="3352680"/>
            <a:ext cx="220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0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675"/>
                            </p:stCondLst>
                            <p:childTnLst>
                              <p:par>
                                <p:cTn id="12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275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3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4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5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BA10010-8167-44DF-890E-155C7B77AD0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24389E6F-5C81-49A1-A7E7-D39E43F985C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B0D44B2-89D9-46A8-A1F4-AD0C3E166C7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0F37900-9FF9-463B-A576-4F0819BC27A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FEE86E4D-717A-4674-A920-C798AA4F2B3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905D937-B661-4D12-BB0F-B29070F56C9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46BED617-4FA4-46E5-B281-1CA629334A8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6AE46C58-F504-499B-8059-26427BA6E02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1676520" y="304920"/>
            <a:ext cx="540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5"/>
          <p:cNvSpPr/>
          <p:nvPr/>
        </p:nvSpPr>
        <p:spPr>
          <a:xfrm>
            <a:off x="304920" y="1269720"/>
            <a:ext cx="868644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following outcomes may be conclud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is a function/price compromised solution to mitigate voltage sag especially at medium level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imulation of three phase DVR using SVPWM technique to control its inverter was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actically, the DVR can respond very fast to mitigate voltage sag (&lt;0.5 cycle) which is perfect for almost all sag sensitive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DC source capacity imposes a limitation on the restoration capability of the DV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0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thank-you.jpg"/>
          <p:cNvPicPr/>
          <p:nvPr/>
        </p:nvPicPr>
        <p:blipFill>
          <a:blip r:embed="rId1"/>
          <a:stretch/>
        </p:blipFill>
        <p:spPr>
          <a:xfrm>
            <a:off x="1523880" y="1405080"/>
            <a:ext cx="609552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5"/>
          <p:cNvSpPr/>
          <p:nvPr/>
        </p:nvSpPr>
        <p:spPr>
          <a:xfrm>
            <a:off x="1600200" y="2042280"/>
            <a:ext cx="7314840" cy="90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929670587"/>
              </p:ext>
            </p:extLst>
          </p:nvPr>
        </p:nvGraphicFramePr>
        <p:xfrm>
          <a:off x="762120" y="1600200"/>
          <a:ext cx="7467120" cy="5257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7" name="Rounded Rectangle 20"/>
          <p:cNvSpPr/>
          <p:nvPr/>
        </p:nvSpPr>
        <p:spPr>
          <a:xfrm>
            <a:off x="4419720" y="304920"/>
            <a:ext cx="2666520" cy="914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GB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68" name="Rounded Rectangle 21"/>
          <p:cNvSpPr/>
          <p:nvPr/>
        </p:nvSpPr>
        <p:spPr>
          <a:xfrm>
            <a:off x="2590920" y="380880"/>
            <a:ext cx="4266720" cy="911160"/>
          </a:xfrm>
          <a:prstGeom prst="roundRect">
            <a:avLst>
              <a:gd name="adj" fmla="val 16667"/>
            </a:avLst>
          </a:prstGeom>
          <a:solidFill>
            <a:schemeClr val="accent1">
              <a:lumMod val="75000"/>
            </a:schemeClr>
          </a:solidFill>
          <a:ln w="9525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utl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5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Power qual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owchart: Alternate Process 21"/>
          <p:cNvSpPr/>
          <p:nvPr/>
        </p:nvSpPr>
        <p:spPr>
          <a:xfrm>
            <a:off x="3352680" y="4876920"/>
            <a:ext cx="1828440" cy="91008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magnitud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lowchart: Alternate Process 22"/>
          <p:cNvSpPr/>
          <p:nvPr/>
        </p:nvSpPr>
        <p:spPr>
          <a:xfrm>
            <a:off x="1447920" y="281952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quency var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owchart: Alternate Process 23"/>
          <p:cNvSpPr/>
          <p:nvPr/>
        </p:nvSpPr>
        <p:spPr>
          <a:xfrm>
            <a:off x="3352680" y="281952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ee phase un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lowchart: Alternate Process 24"/>
          <p:cNvSpPr/>
          <p:nvPr/>
        </p:nvSpPr>
        <p:spPr>
          <a:xfrm>
            <a:off x="3352680" y="380988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fluctu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lowchart: Alternate Process 25"/>
          <p:cNvSpPr/>
          <p:nvPr/>
        </p:nvSpPr>
        <p:spPr>
          <a:xfrm>
            <a:off x="1447920" y="4495680"/>
            <a:ext cx="1523520" cy="37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rm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owchart: Alternate Process 26"/>
          <p:cNvSpPr/>
          <p:nvPr/>
        </p:nvSpPr>
        <p:spPr>
          <a:xfrm>
            <a:off x="1447920" y="518148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no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owchart: Alternate Process 27"/>
          <p:cNvSpPr/>
          <p:nvPr/>
        </p:nvSpPr>
        <p:spPr>
          <a:xfrm>
            <a:off x="1447920" y="3809880"/>
            <a:ext cx="1523520" cy="37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lowchart: Alternate Process 28"/>
          <p:cNvSpPr/>
          <p:nvPr/>
        </p:nvSpPr>
        <p:spPr>
          <a:xfrm>
            <a:off x="5334120" y="281952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der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lowchart: Alternate Process 29"/>
          <p:cNvSpPr/>
          <p:nvPr/>
        </p:nvSpPr>
        <p:spPr>
          <a:xfrm>
            <a:off x="7315200" y="281952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ply inter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lowchart: Alternate Process 30"/>
          <p:cNvSpPr/>
          <p:nvPr/>
        </p:nvSpPr>
        <p:spPr>
          <a:xfrm>
            <a:off x="5334120" y="365760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s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lowchart: Alternate Process 31"/>
          <p:cNvSpPr/>
          <p:nvPr/>
        </p:nvSpPr>
        <p:spPr>
          <a:xfrm>
            <a:off x="5334120" y="449568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lowchart: Alternate Process 32"/>
          <p:cNvSpPr/>
          <p:nvPr/>
        </p:nvSpPr>
        <p:spPr>
          <a:xfrm>
            <a:off x="5334120" y="5334120"/>
            <a:ext cx="152352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s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owchart: Alternate Process 33"/>
          <p:cNvSpPr/>
          <p:nvPr/>
        </p:nvSpPr>
        <p:spPr>
          <a:xfrm>
            <a:off x="7315200" y="3657600"/>
            <a:ext cx="1828440" cy="64080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st voltage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lowchart: Alternate Process 34"/>
          <p:cNvSpPr/>
          <p:nvPr/>
        </p:nvSpPr>
        <p:spPr>
          <a:xfrm>
            <a:off x="7315200" y="4495680"/>
            <a:ext cx="1828440" cy="91008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magnitude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Elbow Connector 82"/>
          <p:cNvCxnSpPr>
            <a:endCxn id="187" idx="2"/>
          </p:cNvCxnSpPr>
          <p:nvPr/>
        </p:nvCxnSpPr>
        <p:spPr>
          <a:xfrm rot="10800000">
            <a:off x="3162240" y="2465640"/>
            <a:ext cx="38520" cy="48960"/>
          </a:xfrm>
          <a:prstGeom prst="bentConnector2">
            <a:avLst/>
          </a:prstGeom>
          <a:ln w="9525">
            <a:noFill/>
          </a:ln>
        </p:spPr>
      </p:cxnSp>
      <p:cxnSp>
        <p:nvCxnSpPr>
          <p:cNvPr id="188" name="_s1032"/>
          <p:cNvCxnSpPr/>
          <p:nvPr/>
        </p:nvCxnSpPr>
        <p:spPr>
          <a:xfrm flipV="1">
            <a:off x="3200400" y="1828440"/>
            <a:ext cx="2629080" cy="2289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89" name="_s1032"/>
          <p:cNvCxnSpPr/>
          <p:nvPr/>
        </p:nvCxnSpPr>
        <p:spPr>
          <a:xfrm rot="10800000">
            <a:off x="4952520" y="1828440"/>
            <a:ext cx="2057760" cy="2289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0" name="_s1032"/>
          <p:cNvCxnSpPr/>
          <p:nvPr/>
        </p:nvCxnSpPr>
        <p:spPr>
          <a:xfrm flipV="1">
            <a:off x="5105160" y="1676160"/>
            <a:ext cx="2160" cy="1530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sp>
        <p:nvSpPr>
          <p:cNvPr id="191" name="Flowchart: Alternate Process 18"/>
          <p:cNvSpPr/>
          <p:nvPr/>
        </p:nvSpPr>
        <p:spPr>
          <a:xfrm>
            <a:off x="2971800" y="1143000"/>
            <a:ext cx="3962160" cy="47268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38100">
            <a:solidFill>
              <a:srgbClr val="c00000"/>
            </a:solidFill>
            <a:bevel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wer quality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lowchart: Alternate Process 19"/>
          <p:cNvSpPr/>
          <p:nvPr/>
        </p:nvSpPr>
        <p:spPr>
          <a:xfrm>
            <a:off x="2362320" y="2057400"/>
            <a:ext cx="1599840" cy="40536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25400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_s1032"/>
          <p:cNvCxnSpPr>
            <a:stCxn id="177" idx="3"/>
            <a:endCxn id="187" idx="2"/>
          </p:cNvCxnSpPr>
          <p:nvPr/>
        </p:nvCxnSpPr>
        <p:spPr>
          <a:xfrm flipV="1">
            <a:off x="2971800" y="2466000"/>
            <a:ext cx="190800" cy="303912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3" name="_s1032"/>
          <p:cNvCxnSpPr>
            <a:stCxn id="183" idx="3"/>
          </p:cNvCxnSpPr>
          <p:nvPr/>
        </p:nvCxnSpPr>
        <p:spPr>
          <a:xfrm flipV="1">
            <a:off x="6858000" y="2438280"/>
            <a:ext cx="190800" cy="321948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sp>
        <p:nvSpPr>
          <p:cNvPr id="194" name="Flowchart: Alternate Process 20"/>
          <p:cNvSpPr/>
          <p:nvPr/>
        </p:nvSpPr>
        <p:spPr>
          <a:xfrm>
            <a:off x="6400800" y="2057400"/>
            <a:ext cx="1218960" cy="405360"/>
          </a:xfrm>
          <a:prstGeom prst="flowChartAlternateProcess">
            <a:avLst/>
          </a:prstGeom>
          <a:solidFill>
            <a:srgbClr val="ffc000">
              <a:alpha val="65000"/>
            </a:srgbClr>
          </a:solidFill>
          <a:ln w="25400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_s1032"/>
          <p:cNvCxnSpPr>
            <a:stCxn id="182" idx="3"/>
            <a:endCxn id="185" idx="1"/>
          </p:cNvCxnSpPr>
          <p:nvPr/>
        </p:nvCxnSpPr>
        <p:spPr>
          <a:xfrm>
            <a:off x="6858000" y="4818960"/>
            <a:ext cx="457560" cy="1368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6" name="_s1032"/>
          <p:cNvCxnSpPr>
            <a:stCxn id="173" idx="3"/>
            <a:endCxn id="174" idx="1"/>
          </p:cNvCxnSpPr>
          <p:nvPr/>
        </p:nvCxnSpPr>
        <p:spPr>
          <a:xfrm>
            <a:off x="2971800" y="3142800"/>
            <a:ext cx="381240" cy="18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7" name="_s1032"/>
          <p:cNvCxnSpPr>
            <a:endCxn id="175" idx="1"/>
          </p:cNvCxnSpPr>
          <p:nvPr/>
        </p:nvCxnSpPr>
        <p:spPr>
          <a:xfrm>
            <a:off x="2971800" y="4038480"/>
            <a:ext cx="381240" cy="9504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8" name="_s1032"/>
          <p:cNvCxnSpPr>
            <a:stCxn id="176" idx="3"/>
            <a:endCxn id="172" idx="1"/>
          </p:cNvCxnSpPr>
          <p:nvPr/>
        </p:nvCxnSpPr>
        <p:spPr>
          <a:xfrm>
            <a:off x="2971800" y="4682880"/>
            <a:ext cx="381240" cy="6537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99" name="_s1032"/>
          <p:cNvCxnSpPr>
            <a:stCxn id="179" idx="3"/>
            <a:endCxn id="180" idx="1"/>
          </p:cNvCxnSpPr>
          <p:nvPr/>
        </p:nvCxnSpPr>
        <p:spPr>
          <a:xfrm>
            <a:off x="6858000" y="3142800"/>
            <a:ext cx="457560" cy="180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200" name="_s1032"/>
          <p:cNvCxnSpPr>
            <a:stCxn id="181" idx="3"/>
            <a:endCxn id="184" idx="1"/>
          </p:cNvCxnSpPr>
          <p:nvPr/>
        </p:nvCxnSpPr>
        <p:spPr>
          <a:xfrm>
            <a:off x="6858000" y="3980880"/>
            <a:ext cx="457560" cy="2160"/>
          </a:xfrm>
          <a:prstGeom prst="bentConnector2">
            <a:avLst/>
          </a:prstGeom>
          <a:ln w="28575">
            <a:solidFill>
              <a:srgbClr val="000000"/>
            </a:solidFill>
            <a:miter/>
          </a:ln>
        </p:spPr>
      </p:cxnSp>
      <p:sp>
        <p:nvSpPr>
          <p:cNvPr id="201" name="Flowchart: Alternate Process 148"/>
          <p:cNvSpPr/>
          <p:nvPr/>
        </p:nvSpPr>
        <p:spPr>
          <a:xfrm>
            <a:off x="5334120" y="3657600"/>
            <a:ext cx="1523520" cy="640800"/>
          </a:xfrm>
          <a:prstGeom prst="flowChartAlternateProcess">
            <a:avLst/>
          </a:prstGeom>
          <a:solidFill>
            <a:srgbClr val="c84c93"/>
          </a:solidFill>
          <a:ln w="15875">
            <a:solidFill>
              <a:srgbClr val="c00000"/>
            </a:solidFill>
            <a:round/>
          </a:ln>
          <a:scene3d>
            <a:camera prst="orthographicFront"/>
            <a:lightRig dir="t" rig="threePt"/>
          </a:scene3d>
          <a:sp3d extrusionH="12700">
            <a:extrusionClr>
              <a:srgbClr val="c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ltage s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-304920" y="2286000"/>
            <a:ext cx="3200040" cy="3838320"/>
          </a:xfrm>
          <a:prstGeom prst="rect">
            <a:avLst/>
          </a:prstGeom>
          <a:ln w="9525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295280" y="6033960"/>
            <a:ext cx="9903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0.5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209680" y="603396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3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971800" y="6033960"/>
            <a:ext cx="9903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1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666880" y="3214800"/>
            <a:ext cx="18284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Normal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676520" y="5729400"/>
            <a:ext cx="106632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momen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905120" y="4205160"/>
            <a:ext cx="1523520" cy="75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s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514600" y="5729400"/>
            <a:ext cx="9903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tempo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505320" y="5729400"/>
            <a:ext cx="190476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Sustained interru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81280" y="4281480"/>
            <a:ext cx="1599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Under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581280" y="2452680"/>
            <a:ext cx="1523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Over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828800" y="2224080"/>
            <a:ext cx="1523520" cy="75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s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 rot="16200000">
            <a:off x="775800" y="4556880"/>
            <a:ext cx="190476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Notch/Trans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838080" y="557676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838080" y="344340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838080" y="3062160"/>
            <a:ext cx="685440" cy="56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1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Elbow Connector 87"/>
          <p:cNvCxnSpPr/>
          <p:nvPr/>
        </p:nvCxnSpPr>
        <p:spPr>
          <a:xfrm>
            <a:off x="1447560" y="6033960"/>
            <a:ext cx="3886560" cy="1800"/>
          </a:xfrm>
          <a:prstGeom prst="bentConnector2">
            <a:avLst/>
          </a:prstGeom>
          <a:ln w="381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Elbow Connector 88"/>
          <p:cNvCxnSpPr/>
          <p:nvPr/>
        </p:nvCxnSpPr>
        <p:spPr>
          <a:xfrm flipV="1">
            <a:off x="1447560" y="2147760"/>
            <a:ext cx="2160" cy="3886560"/>
          </a:xfrm>
          <a:prstGeom prst="bentConnector2">
            <a:avLst/>
          </a:prstGeom>
          <a:ln w="3175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0" name="Text Box 6"/>
          <p:cNvSpPr/>
          <p:nvPr/>
        </p:nvSpPr>
        <p:spPr>
          <a:xfrm rot="16200000">
            <a:off x="791280" y="2332800"/>
            <a:ext cx="190476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Trans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267080" y="6057720"/>
            <a:ext cx="990360" cy="77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Even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676520" y="1447920"/>
            <a:ext cx="3200040" cy="653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IEEE standard 1159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6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6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409D40A-1CF4-403D-863B-4ABD22D08A4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5D1C368-703D-4CB5-B16C-454E0363CA3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9144000" y="419112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chemeClr val="hlink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Voltage sag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8"/>
          <p:cNvSpPr/>
          <p:nvPr/>
        </p:nvSpPr>
        <p:spPr>
          <a:xfrm>
            <a:off x="1143000" y="2514600"/>
            <a:ext cx="289512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tor-generator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838080" y="4800600"/>
            <a:ext cx="304776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ectronic tap cha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0"/>
          <p:cNvSpPr/>
          <p:nvPr/>
        </p:nvSpPr>
        <p:spPr>
          <a:xfrm>
            <a:off x="6095880" y="2514600"/>
            <a:ext cx="3047760" cy="116172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nterruptable Power Supply (U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1"/>
          <p:cNvSpPr/>
          <p:nvPr/>
        </p:nvSpPr>
        <p:spPr>
          <a:xfrm>
            <a:off x="5486400" y="4876920"/>
            <a:ext cx="327636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ynamic Voltage Restorer (DV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Straight Arrow Connector 24"/>
          <p:cNvCxnSpPr>
            <a:stCxn id="234" idx="2"/>
            <a:endCxn id="229" idx="0"/>
          </p:cNvCxnSpPr>
          <p:nvPr/>
        </p:nvCxnSpPr>
        <p:spPr>
          <a:xfrm flipH="1">
            <a:off x="2590560" y="1979280"/>
            <a:ext cx="2514960" cy="535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5" name="Straight Arrow Connector 28"/>
          <p:cNvCxnSpPr>
            <a:stCxn id="234" idx="2"/>
            <a:endCxn id="230" idx="0"/>
          </p:cNvCxnSpPr>
          <p:nvPr/>
        </p:nvCxnSpPr>
        <p:spPr>
          <a:xfrm flipH="1">
            <a:off x="2361960" y="1979280"/>
            <a:ext cx="2743560" cy="2821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6" name="Straight Arrow Connector 31"/>
          <p:cNvCxnSpPr>
            <a:stCxn id="234" idx="2"/>
            <a:endCxn id="232" idx="0"/>
          </p:cNvCxnSpPr>
          <p:nvPr/>
        </p:nvCxnSpPr>
        <p:spPr>
          <a:xfrm>
            <a:off x="5105160" y="1979280"/>
            <a:ext cx="2019600" cy="289764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7" name="Straight Arrow Connector 34"/>
          <p:cNvCxnSpPr>
            <a:stCxn id="234" idx="2"/>
            <a:endCxn id="231" idx="0"/>
          </p:cNvCxnSpPr>
          <p:nvPr/>
        </p:nvCxnSpPr>
        <p:spPr>
          <a:xfrm>
            <a:off x="5105160" y="1979280"/>
            <a:ext cx="2514960" cy="535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34" name="Horizontal Scroll 37"/>
          <p:cNvSpPr/>
          <p:nvPr/>
        </p:nvSpPr>
        <p:spPr>
          <a:xfrm>
            <a:off x="3200400" y="1066680"/>
            <a:ext cx="3809520" cy="1006200"/>
          </a:xfrm>
          <a:prstGeom prst="horizontalScroll">
            <a:avLst>
              <a:gd name="adj" fmla="val 12500"/>
            </a:avLst>
          </a:prstGeom>
          <a:solidFill>
            <a:srgbClr val="ffc000">
              <a:alpha val="65000"/>
            </a:srgbClr>
          </a:solidFill>
          <a:ln w="3492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tigation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9"/>
          <p:cNvSpPr/>
          <p:nvPr/>
        </p:nvSpPr>
        <p:spPr>
          <a:xfrm>
            <a:off x="3276720" y="3657600"/>
            <a:ext cx="289512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VAR compens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30"/>
          <p:cNvCxnSpPr>
            <a:stCxn id="234" idx="2"/>
            <a:endCxn id="238" idx="0"/>
          </p:cNvCxnSpPr>
          <p:nvPr/>
        </p:nvCxnSpPr>
        <p:spPr>
          <a:xfrm flipH="1">
            <a:off x="4724280" y="1979280"/>
            <a:ext cx="381240" cy="1678680"/>
          </a:xfrm>
          <a:prstGeom prst="straightConnector1">
            <a:avLst/>
          </a:prstGeom>
          <a:ln w="28575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788F4A8-B7A2-409E-AB5A-A0C3EFFDFF3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FE70678-21D2-448B-B3F2-7EF2378362E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563343E-85B5-401B-B641-BEDE4110CA6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5AF7F0D-E1D0-4501-9088-71D9704D2A4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CE4EC1A-CA94-4F12-BFB7-3C9E4C3A078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D4123D1A-8D52-42FE-A4FF-F1F9D696171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10EE83E5-1DB5-4F62-9709-B8F7EEC8091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49" name="Oval 19"/>
          <p:cNvSpPr/>
          <p:nvPr/>
        </p:nvSpPr>
        <p:spPr>
          <a:xfrm>
            <a:off x="5486400" y="4876920"/>
            <a:ext cx="3276360" cy="817560"/>
          </a:xfrm>
          <a:prstGeom prst="ellipse">
            <a:avLst/>
          </a:prstGeom>
          <a:solidFill>
            <a:srgbClr val="ffc000">
              <a:alpha val="65000"/>
            </a:srgbClr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ynamic Voltage Restorer (DV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lowchart: Process 21"/>
          <p:cNvSpPr/>
          <p:nvPr/>
        </p:nvSpPr>
        <p:spPr>
          <a:xfrm>
            <a:off x="1523880" y="2743200"/>
            <a:ext cx="990360" cy="1056240"/>
          </a:xfrm>
          <a:prstGeom prst="flowChartProcess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owchart: Process 22"/>
          <p:cNvSpPr/>
          <p:nvPr/>
        </p:nvSpPr>
        <p:spPr>
          <a:xfrm>
            <a:off x="6934320" y="2743200"/>
            <a:ext cx="1447560" cy="304200"/>
          </a:xfrm>
          <a:prstGeom prst="flowChartProcess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rmal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lowchart: Process 23"/>
          <p:cNvSpPr/>
          <p:nvPr/>
        </p:nvSpPr>
        <p:spPr>
          <a:xfrm>
            <a:off x="6934320" y="3657600"/>
            <a:ext cx="1447560" cy="606240"/>
          </a:xfrm>
          <a:prstGeom prst="flowChartProcess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lowchart: Process 45"/>
          <p:cNvSpPr/>
          <p:nvPr/>
        </p:nvSpPr>
        <p:spPr>
          <a:xfrm>
            <a:off x="3276720" y="2895480"/>
            <a:ext cx="45360" cy="784440"/>
          </a:xfrm>
          <a:prstGeom prst="flowChartProcess">
            <a:avLst/>
          </a:prstGeom>
          <a:solidFill>
            <a:schemeClr val="tx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4" name="Straight Connector 47"/>
          <p:cNvCxnSpPr>
            <a:stCxn id="250" idx="3"/>
            <a:endCxn id="253" idx="1"/>
          </p:cNvCxnSpPr>
          <p:nvPr/>
        </p:nvCxnSpPr>
        <p:spPr>
          <a:xfrm flipV="1">
            <a:off x="2514600" y="3287880"/>
            <a:ext cx="762120" cy="9360"/>
          </a:xfrm>
          <a:prstGeom prst="straightConnector1">
            <a:avLst/>
          </a:prstGeom>
          <a:ln w="9525">
            <a:solidFill>
              <a:srgbClr val="000000"/>
            </a:solidFill>
            <a:miter/>
          </a:ln>
        </p:spPr>
      </p:cxnSp>
      <p:cxnSp>
        <p:nvCxnSpPr>
          <p:cNvPr id="255" name="Elbow Connector 50"/>
          <p:cNvCxnSpPr>
            <a:endCxn id="251" idx="1"/>
          </p:cNvCxnSpPr>
          <p:nvPr/>
        </p:nvCxnSpPr>
        <p:spPr>
          <a:xfrm flipV="1">
            <a:off x="3276360" y="2896920"/>
            <a:ext cx="3657960" cy="22752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sp>
        <p:nvSpPr>
          <p:cNvPr id="256" name="Flowchart: Process 54"/>
          <p:cNvSpPr/>
          <p:nvPr/>
        </p:nvSpPr>
        <p:spPr>
          <a:xfrm>
            <a:off x="3429000" y="39625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asu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lowchart: Process 55"/>
          <p:cNvSpPr/>
          <p:nvPr/>
        </p:nvSpPr>
        <p:spPr>
          <a:xfrm>
            <a:off x="3429000" y="457200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owchart: Process 56"/>
          <p:cNvSpPr/>
          <p:nvPr/>
        </p:nvSpPr>
        <p:spPr>
          <a:xfrm>
            <a:off x="3429000" y="518148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lowchart: Process 57"/>
          <p:cNvSpPr/>
          <p:nvPr/>
        </p:nvSpPr>
        <p:spPr>
          <a:xfrm>
            <a:off x="3429000" y="57913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lowchart: Process 58"/>
          <p:cNvSpPr/>
          <p:nvPr/>
        </p:nvSpPr>
        <p:spPr>
          <a:xfrm>
            <a:off x="1676520" y="57913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C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lowchart: Process 59"/>
          <p:cNvSpPr/>
          <p:nvPr/>
        </p:nvSpPr>
        <p:spPr>
          <a:xfrm>
            <a:off x="5257800" y="5791320"/>
            <a:ext cx="1447560" cy="304200"/>
          </a:xfrm>
          <a:prstGeom prst="flowChartProcess">
            <a:avLst/>
          </a:prstGeom>
          <a:noFill/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Elbow Connector 61"/>
          <p:cNvCxnSpPr>
            <a:endCxn id="252" idx="1"/>
          </p:cNvCxnSpPr>
          <p:nvPr/>
        </p:nvCxnSpPr>
        <p:spPr>
          <a:xfrm>
            <a:off x="3276360" y="3503520"/>
            <a:ext cx="3657960" cy="46980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sp>
        <p:nvSpPr>
          <p:cNvPr id="263" name="Flowchart: Process 60"/>
          <p:cNvSpPr/>
          <p:nvPr/>
        </p:nvSpPr>
        <p:spPr>
          <a:xfrm>
            <a:off x="5257800" y="3657600"/>
            <a:ext cx="1447560" cy="606240"/>
          </a:xfrm>
          <a:prstGeom prst="flowChartProcess">
            <a:avLst/>
          </a:prstGeom>
          <a:solidFill>
            <a:schemeClr val="bg1"/>
          </a:solidFill>
          <a:ln w="190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j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for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74"/>
          <p:cNvCxnSpPr>
            <a:stCxn id="256" idx="2"/>
            <a:endCxn id="257" idx="0"/>
          </p:cNvCxnSpPr>
          <p:nvPr/>
        </p:nvCxnSpPr>
        <p:spPr>
          <a:xfrm flipH="1">
            <a:off x="4151880" y="4270680"/>
            <a:ext cx="2160" cy="3024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78"/>
          <p:cNvCxnSpPr>
            <a:stCxn id="257" idx="2"/>
            <a:endCxn id="258" idx="0"/>
          </p:cNvCxnSpPr>
          <p:nvPr/>
        </p:nvCxnSpPr>
        <p:spPr>
          <a:xfrm flipH="1">
            <a:off x="4151880" y="4880520"/>
            <a:ext cx="2160" cy="30204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Straight Arrow Connector 81"/>
          <p:cNvCxnSpPr>
            <a:stCxn id="258" idx="2"/>
            <a:endCxn id="259" idx="0"/>
          </p:cNvCxnSpPr>
          <p:nvPr/>
        </p:nvCxnSpPr>
        <p:spPr>
          <a:xfrm flipH="1">
            <a:off x="4151880" y="5490000"/>
            <a:ext cx="2160" cy="30204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85"/>
          <p:cNvCxnSpPr>
            <a:stCxn id="260" idx="3"/>
            <a:endCxn id="259" idx="1"/>
          </p:cNvCxnSpPr>
          <p:nvPr/>
        </p:nvCxnSpPr>
        <p:spPr>
          <a:xfrm>
            <a:off x="3124080" y="5945040"/>
            <a:ext cx="3052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88"/>
          <p:cNvCxnSpPr>
            <a:stCxn id="259" idx="3"/>
            <a:endCxn id="261" idx="1"/>
          </p:cNvCxnSpPr>
          <p:nvPr/>
        </p:nvCxnSpPr>
        <p:spPr>
          <a:xfrm>
            <a:off x="4876560" y="5945040"/>
            <a:ext cx="3816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91"/>
          <p:cNvCxnSpPr>
            <a:stCxn id="261" idx="0"/>
            <a:endCxn id="263" idx="2"/>
          </p:cNvCxnSpPr>
          <p:nvPr/>
        </p:nvCxnSpPr>
        <p:spPr>
          <a:xfrm flipV="1">
            <a:off x="5980680" y="4289040"/>
            <a:ext cx="2160" cy="15030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Straight Arrow Connector 97"/>
          <p:cNvCxnSpPr/>
          <p:nvPr/>
        </p:nvCxnSpPr>
        <p:spPr>
          <a:xfrm>
            <a:off x="4114800" y="3504960"/>
            <a:ext cx="360" cy="45468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Elbow Connector 101"/>
          <p:cNvCxnSpPr/>
          <p:nvPr/>
        </p:nvCxnSpPr>
        <p:spPr>
          <a:xfrm flipV="1">
            <a:off x="3047760" y="3429000"/>
            <a:ext cx="3810600" cy="30492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cxnSp>
        <p:nvCxnSpPr>
          <p:cNvPr id="272" name="Elbow Connector 104"/>
          <p:cNvCxnSpPr/>
          <p:nvPr/>
        </p:nvCxnSpPr>
        <p:spPr>
          <a:xfrm flipV="1" rot="10800000">
            <a:off x="6858000" y="3428640"/>
            <a:ext cx="1800" cy="289584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cxnSp>
        <p:nvCxnSpPr>
          <p:cNvPr id="273" name="Elbow Connector 108"/>
          <p:cNvCxnSpPr/>
          <p:nvPr/>
        </p:nvCxnSpPr>
        <p:spPr>
          <a:xfrm flipV="1" rot="10800000">
            <a:off x="1523880" y="3733200"/>
            <a:ext cx="1526040" cy="259128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cxnSp>
        <p:nvCxnSpPr>
          <p:cNvPr id="274" name="Elbow Connector 111"/>
          <p:cNvCxnSpPr/>
          <p:nvPr/>
        </p:nvCxnSpPr>
        <p:spPr>
          <a:xfrm rot="10800000">
            <a:off x="1523520" y="6324480"/>
            <a:ext cx="5334480" cy="1800"/>
          </a:xfrm>
          <a:prstGeom prst="bentConnector2">
            <a:avLst/>
          </a:prstGeom>
          <a:ln w="38100">
            <a:solidFill>
              <a:srgbClr val="c00000"/>
            </a:solidFill>
            <a:prstDash val="dash"/>
            <a:miter/>
          </a:ln>
        </p:spPr>
      </p:cxnSp>
      <p:sp>
        <p:nvSpPr>
          <p:cNvPr id="275" name="TextBox 116"/>
          <p:cNvSpPr/>
          <p:nvPr/>
        </p:nvSpPr>
        <p:spPr>
          <a:xfrm>
            <a:off x="6937920" y="487692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DV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1066680" y="380880"/>
            <a:ext cx="79243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ucture of Dynamic Voltage Rest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51"/>
          <p:cNvGrpSpPr/>
          <p:nvPr/>
        </p:nvGrpSpPr>
        <p:grpSpPr>
          <a:xfrm>
            <a:off x="1523880" y="3456360"/>
            <a:ext cx="5333760" cy="2852640"/>
            <a:chOff x="1523880" y="3456360"/>
            <a:chExt cx="5333760" cy="2852640"/>
          </a:xfrm>
        </p:grpSpPr>
        <p:sp>
          <p:nvSpPr>
            <p:cNvPr id="278" name="Rectangle 46"/>
            <p:cNvSpPr/>
            <p:nvPr/>
          </p:nvSpPr>
          <p:spPr>
            <a:xfrm>
              <a:off x="1523880" y="5394960"/>
              <a:ext cx="1523520" cy="914040"/>
            </a:xfrm>
            <a:prstGeom prst="rect">
              <a:avLst/>
            </a:prstGeom>
            <a:solidFill>
              <a:srgbClr val="ffc000">
                <a:alpha val="4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279" name="Rectangle 49"/>
            <p:cNvSpPr/>
            <p:nvPr/>
          </p:nvSpPr>
          <p:spPr>
            <a:xfrm>
              <a:off x="4983480" y="3456360"/>
              <a:ext cx="1874160" cy="292320"/>
            </a:xfrm>
            <a:prstGeom prst="rect">
              <a:avLst/>
            </a:prstGeom>
            <a:solidFill>
              <a:srgbClr val="ffc000">
                <a:alpha val="4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  <p:sp>
          <p:nvSpPr>
            <p:cNvPr id="280" name="Rectangle 48"/>
            <p:cNvSpPr/>
            <p:nvPr/>
          </p:nvSpPr>
          <p:spPr>
            <a:xfrm>
              <a:off x="3048120" y="3749040"/>
              <a:ext cx="3809520" cy="2559960"/>
            </a:xfrm>
            <a:prstGeom prst="rect">
              <a:avLst/>
            </a:prstGeom>
            <a:solidFill>
              <a:srgbClr val="ffc000">
                <a:alpha val="4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endParaRPr b="1" lang="en-US" sz="1200" spc="-1" strike="noStrike">
                <a:solidFill>
                  <a:schemeClr val="hlink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1481E-006 L -0.21667 -0.52662 E">
                                      <p:cBhvr>
                                        <p:cTn id="31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6FD2010-C6C4-4635-95AF-4BA8E1B1454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921B14C-71A5-4CCE-8A22-A2EB6A0A664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DB8A1F0-F861-4005-99B2-38CBF7BF863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84BD2CE-9C18-4CDC-AD40-EE45F0057D3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C45B309-8014-40CC-881C-42F4576BABB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7435D76-D0D7-45BE-9261-A7689041279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9124EC91-66A4-43A1-8267-5B27D2E5CDB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24ED350A-06E3-47D5-9522-7E4EBFF7B57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1600200" y="2286000"/>
            <a:ext cx="7314840" cy="2512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Tahoma"/>
              </a:rPr>
              <a:t>DVR Design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601"/>
              </a:spcBef>
            </a:pP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ahoma"/>
              </a:rPr>
              <a:t>The design procedure can be divided i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he power 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he control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764BB9A-EABC-43B5-9D55-410EFE1C17C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B0F3424-9B27-4F20-8017-3F9980F34F4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E782105-161F-42EC-ADB6-79BA5ADBCBA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EF9E642-EA65-40A4-8D00-45E484F6D25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8B070C9-5083-4910-839B-0A925F6E0A7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7BA9B69-BBB3-477F-B649-2F57A4FEA73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9BE0CA8-BD9B-43D2-8C1E-4C2626528DF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DA281713-B52C-4763-A249-9C7B617F608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AF112171-308E-4A26-873B-F7506D05134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11" name="Rectangle 30"/>
          <p:cNvSpPr/>
          <p:nvPr/>
        </p:nvSpPr>
        <p:spPr>
          <a:xfrm>
            <a:off x="609480" y="990720"/>
            <a:ext cx="8229240" cy="41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ower circuit is composed of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jection transfor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C sou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ounded Rectangular Callout 129"/>
          <p:cNvSpPr/>
          <p:nvPr/>
        </p:nvSpPr>
        <p:spPr>
          <a:xfrm>
            <a:off x="1447920" y="1676520"/>
            <a:ext cx="7467120" cy="998640"/>
          </a:xfrm>
          <a:prstGeom prst="wedgeRoundRectCallout">
            <a:avLst>
              <a:gd name="adj1" fmla="val 44953"/>
              <a:gd name="adj2" fmla="val 356571"/>
              <a:gd name="adj3" fmla="val 16667"/>
            </a:avLst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2- adjusting the proper firing pul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for the inve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1447920" y="914400"/>
            <a:ext cx="769572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The controller has two main job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ular Callout 128"/>
          <p:cNvSpPr/>
          <p:nvPr/>
        </p:nvSpPr>
        <p:spPr>
          <a:xfrm>
            <a:off x="1523880" y="1295280"/>
            <a:ext cx="5409720" cy="472680"/>
          </a:xfrm>
          <a:prstGeom prst="wedgeRoundRectCallout">
            <a:avLst>
              <a:gd name="adj1" fmla="val 1154"/>
              <a:gd name="adj2" fmla="val 339201"/>
              <a:gd name="adj3" fmla="val 16667"/>
            </a:avLst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ahoma"/>
              </a:rPr>
              <a:t>1- Sensing the sag occur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22"/>
          <p:cNvSpPr/>
          <p:nvPr/>
        </p:nvSpPr>
        <p:spPr>
          <a:xfrm>
            <a:off x="7351920" y="4114800"/>
            <a:ext cx="7419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21B6C93-377A-40A0-A9E1-D59469DEEF7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78BB31BB-2E31-4A46-B0FA-012D70B6D40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CF07600-F950-4001-BBC5-F276AB1F1C4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A757962-5088-4CEF-ADC3-67EC36EDDE0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81241851-4888-4E50-9B93-4BBA04D6AF2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D80C4CB-3ACE-46DF-96E1-754A8907086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8414C275-E284-445A-B4FE-EFC3A8034A0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8EC5E2A7-EFAD-42A0-9D96-5B22A2B4795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The control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lowchart: Process 24"/>
          <p:cNvSpPr/>
          <p:nvPr/>
        </p:nvSpPr>
        <p:spPr>
          <a:xfrm>
            <a:off x="228600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bc/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lowchart: Process 25"/>
          <p:cNvSpPr/>
          <p:nvPr/>
        </p:nvSpPr>
        <p:spPr>
          <a:xfrm>
            <a:off x="365760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αβ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d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lowchart: Process 26"/>
          <p:cNvSpPr/>
          <p:nvPr/>
        </p:nvSpPr>
        <p:spPr>
          <a:xfrm>
            <a:off x="4648320" y="4572000"/>
            <a:ext cx="990360" cy="30420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lowchart: Process 27"/>
          <p:cNvSpPr/>
          <p:nvPr/>
        </p:nvSpPr>
        <p:spPr>
          <a:xfrm>
            <a:off x="5486400" y="5029200"/>
            <a:ext cx="990360" cy="30420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Θ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lowchart: Summing Junction 30"/>
          <p:cNvSpPr/>
          <p:nvPr/>
        </p:nvSpPr>
        <p:spPr>
          <a:xfrm>
            <a:off x="5257800" y="3124080"/>
            <a:ext cx="304560" cy="389160"/>
          </a:xfrm>
          <a:prstGeom prst="flowChartSummingJunction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32" name="Flowchart: Process 31"/>
          <p:cNvSpPr/>
          <p:nvPr/>
        </p:nvSpPr>
        <p:spPr>
          <a:xfrm>
            <a:off x="662940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q/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α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lowchart: Process 32"/>
          <p:cNvSpPr/>
          <p:nvPr/>
        </p:nvSpPr>
        <p:spPr>
          <a:xfrm>
            <a:off x="7848720" y="304812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/√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lowchart: Process 33"/>
          <p:cNvSpPr/>
          <p:nvPr/>
        </p:nvSpPr>
        <p:spPr>
          <a:xfrm>
            <a:off x="7848720" y="4572000"/>
            <a:ext cx="990360" cy="1056240"/>
          </a:xfrm>
          <a:prstGeom prst="flowChartProcess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VPW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Straight Arrow Connector 35"/>
          <p:cNvCxnSpPr/>
          <p:nvPr/>
        </p:nvCxnSpPr>
        <p:spPr>
          <a:xfrm>
            <a:off x="4647960" y="3352680"/>
            <a:ext cx="6102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Straight Arrow Connector 38"/>
          <p:cNvCxnSpPr/>
          <p:nvPr/>
        </p:nvCxnSpPr>
        <p:spPr>
          <a:xfrm>
            <a:off x="1828800" y="3581280"/>
            <a:ext cx="4575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Straight Arrow Connector 39"/>
          <p:cNvCxnSpPr/>
          <p:nvPr/>
        </p:nvCxnSpPr>
        <p:spPr>
          <a:xfrm>
            <a:off x="1828800" y="3276360"/>
            <a:ext cx="457560" cy="216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Straight Arrow Connector 40"/>
          <p:cNvCxnSpPr/>
          <p:nvPr/>
        </p:nvCxnSpPr>
        <p:spPr>
          <a:xfrm>
            <a:off x="1828800" y="3886200"/>
            <a:ext cx="4575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Straight Arrow Connector 43"/>
          <p:cNvCxnSpPr/>
          <p:nvPr/>
        </p:nvCxnSpPr>
        <p:spPr>
          <a:xfrm>
            <a:off x="3276360" y="3352680"/>
            <a:ext cx="3816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Straight Arrow Connector 45"/>
          <p:cNvCxnSpPr/>
          <p:nvPr/>
        </p:nvCxnSpPr>
        <p:spPr>
          <a:xfrm>
            <a:off x="3276360" y="3886200"/>
            <a:ext cx="3816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Straight Arrow Connector 59"/>
          <p:cNvCxnSpPr/>
          <p:nvPr/>
        </p:nvCxnSpPr>
        <p:spPr>
          <a:xfrm>
            <a:off x="4647960" y="3886200"/>
            <a:ext cx="9910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Straight Arrow Connector 61"/>
          <p:cNvCxnSpPr/>
          <p:nvPr/>
        </p:nvCxnSpPr>
        <p:spPr>
          <a:xfrm flipH="1">
            <a:off x="5410080" y="2438280"/>
            <a:ext cx="1800" cy="68616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Flowchart: Summing Junction 63"/>
          <p:cNvSpPr/>
          <p:nvPr/>
        </p:nvSpPr>
        <p:spPr>
          <a:xfrm>
            <a:off x="5638680" y="3657600"/>
            <a:ext cx="304560" cy="389160"/>
          </a:xfrm>
          <a:prstGeom prst="flowChartSummingJunction">
            <a:avLst/>
          </a:prstGeom>
          <a:solidFill>
            <a:srgbClr val="ffc000">
              <a:alpha val="65000"/>
            </a:srgb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cxnSp>
        <p:nvCxnSpPr>
          <p:cNvPr id="344" name="Straight Arrow Connector 64"/>
          <p:cNvCxnSpPr/>
          <p:nvPr/>
        </p:nvCxnSpPr>
        <p:spPr>
          <a:xfrm flipH="1">
            <a:off x="5790240" y="3047760"/>
            <a:ext cx="1080" cy="610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Straight Arrow Connector 66"/>
          <p:cNvCxnSpPr/>
          <p:nvPr/>
        </p:nvCxnSpPr>
        <p:spPr>
          <a:xfrm>
            <a:off x="5562360" y="3352680"/>
            <a:ext cx="106740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Straight Arrow Connector 70"/>
          <p:cNvCxnSpPr/>
          <p:nvPr/>
        </p:nvCxnSpPr>
        <p:spPr>
          <a:xfrm>
            <a:off x="5943600" y="3886200"/>
            <a:ext cx="6861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Straight Arrow Connector 73"/>
          <p:cNvCxnSpPr/>
          <p:nvPr/>
        </p:nvCxnSpPr>
        <p:spPr>
          <a:xfrm flipH="1">
            <a:off x="800100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Straight Arrow Connector 76"/>
          <p:cNvCxnSpPr/>
          <p:nvPr/>
        </p:nvCxnSpPr>
        <p:spPr>
          <a:xfrm flipH="1">
            <a:off x="5180760" y="3886920"/>
            <a:ext cx="1800" cy="68544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Straight Arrow Connector 78"/>
          <p:cNvCxnSpPr/>
          <p:nvPr/>
        </p:nvCxnSpPr>
        <p:spPr>
          <a:xfrm flipH="1">
            <a:off x="5181480" y="4876560"/>
            <a:ext cx="1080" cy="30528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Straight Arrow Connector 81"/>
          <p:cNvCxnSpPr/>
          <p:nvPr/>
        </p:nvCxnSpPr>
        <p:spPr>
          <a:xfrm>
            <a:off x="4190760" y="5181480"/>
            <a:ext cx="9910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</a:ln>
        </p:spPr>
      </p:cxnSp>
      <p:cxnSp>
        <p:nvCxnSpPr>
          <p:cNvPr id="351" name="Straight Arrow Connector 82"/>
          <p:cNvCxnSpPr/>
          <p:nvPr/>
        </p:nvCxnSpPr>
        <p:spPr>
          <a:xfrm flipH="1">
            <a:off x="4190760" y="4190760"/>
            <a:ext cx="1080" cy="991080"/>
          </a:xfrm>
          <a:prstGeom prst="straightConnector1">
            <a:avLst/>
          </a:prstGeom>
          <a:ln w="9525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2" name="Straight Arrow Connector 85"/>
          <p:cNvCxnSpPr/>
          <p:nvPr/>
        </p:nvCxnSpPr>
        <p:spPr>
          <a:xfrm>
            <a:off x="5181480" y="5181480"/>
            <a:ext cx="30528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Straight Arrow Connector 86"/>
          <p:cNvCxnSpPr/>
          <p:nvPr/>
        </p:nvCxnSpPr>
        <p:spPr>
          <a:xfrm>
            <a:off x="6476760" y="5181480"/>
            <a:ext cx="6861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Straight Arrow Connector 88"/>
          <p:cNvCxnSpPr/>
          <p:nvPr/>
        </p:nvCxnSpPr>
        <p:spPr>
          <a:xfrm flipH="1">
            <a:off x="7162560" y="4190760"/>
            <a:ext cx="1080" cy="991080"/>
          </a:xfrm>
          <a:prstGeom prst="straightConnector1">
            <a:avLst/>
          </a:prstGeom>
          <a:ln w="9525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5" name="Straight Arrow Connector 89"/>
          <p:cNvCxnSpPr/>
          <p:nvPr/>
        </p:nvCxnSpPr>
        <p:spPr>
          <a:xfrm>
            <a:off x="7619760" y="3352680"/>
            <a:ext cx="2289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Straight Arrow Connector 91"/>
          <p:cNvCxnSpPr/>
          <p:nvPr/>
        </p:nvCxnSpPr>
        <p:spPr>
          <a:xfrm>
            <a:off x="7619760" y="3886200"/>
            <a:ext cx="228960" cy="18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Straight Arrow Connector 92"/>
          <p:cNvCxnSpPr/>
          <p:nvPr/>
        </p:nvCxnSpPr>
        <p:spPr>
          <a:xfrm flipH="1">
            <a:off x="8610480" y="4190760"/>
            <a:ext cx="1080" cy="3816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Straight Arrow Connector 95"/>
          <p:cNvCxnSpPr/>
          <p:nvPr/>
        </p:nvCxnSpPr>
        <p:spPr>
          <a:xfrm flipH="1">
            <a:off x="8076960" y="4190760"/>
            <a:ext cx="1080" cy="38160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Straight Arrow Connector 97"/>
          <p:cNvCxnSpPr/>
          <p:nvPr/>
        </p:nvCxnSpPr>
        <p:spPr>
          <a:xfrm flipH="1">
            <a:off x="815328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Straight Arrow Connector 98"/>
          <p:cNvCxnSpPr/>
          <p:nvPr/>
        </p:nvCxnSpPr>
        <p:spPr>
          <a:xfrm flipH="1">
            <a:off x="8305560" y="5715000"/>
            <a:ext cx="216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Straight Arrow Connector 99"/>
          <p:cNvCxnSpPr/>
          <p:nvPr/>
        </p:nvCxnSpPr>
        <p:spPr>
          <a:xfrm flipH="1">
            <a:off x="845820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Straight Arrow Connector 100"/>
          <p:cNvCxnSpPr/>
          <p:nvPr/>
        </p:nvCxnSpPr>
        <p:spPr>
          <a:xfrm flipH="1">
            <a:off x="8610480" y="5715000"/>
            <a:ext cx="180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Straight Arrow Connector 101"/>
          <p:cNvCxnSpPr/>
          <p:nvPr/>
        </p:nvCxnSpPr>
        <p:spPr>
          <a:xfrm flipH="1">
            <a:off x="8762760" y="5715000"/>
            <a:ext cx="2160" cy="304920"/>
          </a:xfrm>
          <a:prstGeom prst="straightConnector1">
            <a:avLst/>
          </a:prstGeom>
          <a:ln w="9525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TextBox 104"/>
          <p:cNvSpPr/>
          <p:nvPr/>
        </p:nvSpPr>
        <p:spPr>
          <a:xfrm>
            <a:off x="1445760" y="3048120"/>
            <a:ext cx="411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06"/>
          <p:cNvSpPr/>
          <p:nvPr/>
        </p:nvSpPr>
        <p:spPr>
          <a:xfrm>
            <a:off x="1456560" y="3352680"/>
            <a:ext cx="418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07"/>
          <p:cNvSpPr/>
          <p:nvPr/>
        </p:nvSpPr>
        <p:spPr>
          <a:xfrm>
            <a:off x="1455480" y="3657600"/>
            <a:ext cx="405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08"/>
          <p:cNvSpPr/>
          <p:nvPr/>
        </p:nvSpPr>
        <p:spPr>
          <a:xfrm>
            <a:off x="3286080" y="2971800"/>
            <a:ext cx="424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09"/>
          <p:cNvSpPr/>
          <p:nvPr/>
        </p:nvSpPr>
        <p:spPr>
          <a:xfrm>
            <a:off x="3286080" y="3505320"/>
            <a:ext cx="424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10"/>
          <p:cNvSpPr/>
          <p:nvPr/>
        </p:nvSpPr>
        <p:spPr>
          <a:xfrm>
            <a:off x="4656960" y="2971800"/>
            <a:ext cx="418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11"/>
          <p:cNvSpPr/>
          <p:nvPr/>
        </p:nvSpPr>
        <p:spPr>
          <a:xfrm>
            <a:off x="4656960" y="3505320"/>
            <a:ext cx="418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12"/>
          <p:cNvSpPr/>
          <p:nvPr/>
        </p:nvSpPr>
        <p:spPr>
          <a:xfrm>
            <a:off x="3888000" y="41911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13"/>
          <p:cNvSpPr/>
          <p:nvPr/>
        </p:nvSpPr>
        <p:spPr>
          <a:xfrm>
            <a:off x="5132160" y="2057400"/>
            <a:ext cx="645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14"/>
          <p:cNvSpPr/>
          <p:nvPr/>
        </p:nvSpPr>
        <p:spPr>
          <a:xfrm>
            <a:off x="5513040" y="2590920"/>
            <a:ext cx="645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q_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16"/>
          <p:cNvSpPr/>
          <p:nvPr/>
        </p:nvSpPr>
        <p:spPr>
          <a:xfrm>
            <a:off x="5971320" y="2971800"/>
            <a:ext cx="66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17"/>
          <p:cNvSpPr/>
          <p:nvPr/>
        </p:nvSpPr>
        <p:spPr>
          <a:xfrm>
            <a:off x="5971320" y="3505320"/>
            <a:ext cx="6642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q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21"/>
          <p:cNvSpPr/>
          <p:nvPr/>
        </p:nvSpPr>
        <p:spPr>
          <a:xfrm>
            <a:off x="8153280" y="4114800"/>
            <a:ext cx="81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urier New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_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23"/>
          <p:cNvSpPr/>
          <p:nvPr/>
        </p:nvSpPr>
        <p:spPr>
          <a:xfrm>
            <a:off x="7248240" y="6095880"/>
            <a:ext cx="188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ing pul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lowchart: Connector 130"/>
          <p:cNvSpPr/>
          <p:nvPr/>
        </p:nvSpPr>
        <p:spPr>
          <a:xfrm>
            <a:off x="5867280" y="2971800"/>
            <a:ext cx="761760" cy="389160"/>
          </a:xfrm>
          <a:prstGeom prst="flowChartConnector">
            <a:avLst/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79" name="Oval Callout 131"/>
          <p:cNvSpPr/>
          <p:nvPr/>
        </p:nvSpPr>
        <p:spPr>
          <a:xfrm>
            <a:off x="6019920" y="2133720"/>
            <a:ext cx="2971440" cy="905400"/>
          </a:xfrm>
          <a:prstGeom prst="wedgeEllipseCallout">
            <a:avLst>
              <a:gd name="adj1" fmla="val -36859"/>
              <a:gd name="adj2" fmla="val 106516"/>
            </a:avLst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ahoma"/>
              </a:rPr>
              <a:t>Sag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Callout 132"/>
          <p:cNvSpPr/>
          <p:nvPr/>
        </p:nvSpPr>
        <p:spPr>
          <a:xfrm>
            <a:off x="3048120" y="5486400"/>
            <a:ext cx="2971440" cy="905400"/>
          </a:xfrm>
          <a:prstGeom prst="wedgeEllipseCallout">
            <a:avLst>
              <a:gd name="adj1" fmla="val 109615"/>
              <a:gd name="adj2" fmla="val -73218"/>
            </a:avLst>
          </a:prstGeom>
          <a:noFill/>
          <a:ln w="3175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ahoma"/>
              </a:rPr>
              <a:t>adjusting firing pu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1662120" y="338040"/>
            <a:ext cx="237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V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Callout 79"/>
          <p:cNvSpPr/>
          <p:nvPr/>
        </p:nvSpPr>
        <p:spPr>
          <a:xfrm>
            <a:off x="1600200" y="1981080"/>
            <a:ext cx="2971440" cy="905400"/>
          </a:xfrm>
          <a:prstGeom prst="wedgeEllipseCallout">
            <a:avLst>
              <a:gd name="adj1" fmla="val 71386"/>
              <a:gd name="adj2" fmla="val -17549"/>
            </a:avLst>
          </a:prstGeom>
          <a:solidFill>
            <a:srgbClr val="ffc000">
              <a:alpha val="95000"/>
            </a:srgbClr>
          </a:solidFill>
          <a:ln w="952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ltage mag.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Callout 80"/>
          <p:cNvSpPr/>
          <p:nvPr/>
        </p:nvSpPr>
        <p:spPr>
          <a:xfrm>
            <a:off x="1600200" y="4419720"/>
            <a:ext cx="2971440" cy="905400"/>
          </a:xfrm>
          <a:prstGeom prst="wedgeEllipseCallout">
            <a:avLst>
              <a:gd name="adj1" fmla="val 81154"/>
              <a:gd name="adj2" fmla="val 20778"/>
            </a:avLst>
          </a:prstGeom>
          <a:solidFill>
            <a:srgbClr val="ffc000">
              <a:alpha val="95000"/>
            </a:srgbClr>
          </a:solidFill>
          <a:ln w="9525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ltage phas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8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96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46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2"/>
          <p:cNvSpPr/>
          <p:nvPr/>
        </p:nvSpPr>
        <p:spPr>
          <a:xfrm>
            <a:off x="1447920" y="990720"/>
            <a:ext cx="769572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following data are the same for the simulation and the practical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urce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V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</a:rPr>
              <a:t>s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= 110 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line to 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Z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</a:rPr>
              <a:t>s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= 1.3 </a:t>
            </a:r>
            <a:r>
              <a:rPr b="1" lang="el-GR" sz="2000" spc="-1" strike="noStrike">
                <a:solidFill>
                  <a:srgbClr val="c00000"/>
                </a:solidFill>
                <a:latin typeface="Courier New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: three phase balanced load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20 </a:t>
            </a:r>
            <a:r>
              <a:rPr b="1" lang="el-GR" sz="2000" spc="-1" strike="noStrike">
                <a:solidFill>
                  <a:srgbClr val="c00000"/>
                </a:solidFill>
                <a:latin typeface="Courier New"/>
              </a:rPr>
              <a:t>Ω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ter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L = 370 µ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C = 90 µ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jection transform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urns ratio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1: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atings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45V, 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C source for the inverter: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V</a:t>
            </a:r>
            <a:r>
              <a:rPr b="1" lang="en-US" sz="1400" spc="-1" strike="noStrike">
                <a:solidFill>
                  <a:srgbClr val="c00000"/>
                </a:solidFill>
                <a:latin typeface="Courier New"/>
              </a:rPr>
              <a:t>dc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= 7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C9CAF8E8-F667-474A-889B-E841B7E0BCC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5333CA0-C2C4-414A-8C6F-7643FA49CE7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8AA3B39-6C4A-4F98-A733-A340D5BBD4E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97C629A1-2566-48EC-BD20-F93E7F99DB8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AA83E0B-A93A-4442-9881-441B10EBA1A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E2A4E1A3-320B-4809-B510-4DED8BC3BC0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C2B98C50-F81C-4452-B1D4-B0C444B5B47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F7610693-E7EA-4601-9E0F-36598A3B4C3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557360" y="838080"/>
            <a:ext cx="746712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9525">
            <a:solidFill>
              <a:srgbClr val="dbda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1" lang="en-US" sz="1200" spc="-1" strike="noStrike">
              <a:solidFill>
                <a:schemeClr val="hlink"/>
              </a:solidFill>
              <a:latin typeface="Times New Roman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4724280" y="380880"/>
            <a:ext cx="4266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Test system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662120" y="338040"/>
            <a:ext cx="367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8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600"/>
                            </p:stCondLst>
                            <p:childTnLst>
                              <p:par>
                                <p:cTn id="8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920"/>
                            </p:stCondLst>
                            <p:childTnLst>
                              <p:par>
                                <p:cTn id="8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0</TotalTime>
  <Application>LibreOffice/7.4.7.2$Linux_X86_64 LibreOffice_project/40$Build-2</Application>
  <AppVersion>15.0000</AppVersion>
  <Words>632</Words>
  <Paragraphs>3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01:32:56Z</dcterms:created>
  <dc:creator>eng. sherif</dc:creator>
  <dc:description/>
  <dc:language>en-US</dc:language>
  <cp:lastModifiedBy>Brigade</cp:lastModifiedBy>
  <dcterms:modified xsi:type="dcterms:W3CDTF">2011-08-25T06:23:14Z</dcterms:modified>
  <cp:revision>1408</cp:revision>
  <dc:subject/>
  <dc:title>DV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